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936F-715A-4770-B7DC-FD0F9D0C0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2D96-A7C8-481D-8CD7-6A3821F68A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5BD6-FBEE-4053-BC78-691826B7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711A-8238-4CC6-BB7D-53AAC09C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3446-4461-4283-8126-2774F7F4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4086-10AC-44A9-98C7-F8109536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F13C-0DC9-418B-9E28-C41D23BB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2FFB-D1E1-4401-83AC-254687B7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137A-631D-40BC-BA6E-AD11C9CB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18C5-5E2B-4839-B8B5-E6C1FC80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1237-BA35-4FF7-B6D8-68844660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AEE0-3934-4187-BA9F-BE1D0215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22E3-9676-45B6-9E62-3EEEAA1E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44B4-CEBE-493F-933A-D40AB945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74AB-0719-4AF8-94B9-F6A593D4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9210-6CCD-4237-9EAD-3F26440F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B4D1-5EE5-4D3A-8871-BD6C3A5D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A3E3-DE34-4DA7-B8D2-75E04BE2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A087-86D0-4914-B96C-6DA26921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9FBA-0F80-46EC-B29C-2BDDD383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8FD4-8FB5-403A-B6C5-3C8A0DA0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BC05-A8AC-4E6B-833A-3062690C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6CF5-64CB-4AAD-9C2A-851D64F7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DE87-09C6-42EB-A6BE-338C33A8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B817-FD5D-4D4F-A895-1A443CBD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A542-8489-477D-BE22-01926490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428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2548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666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3672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52280" y="76212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873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6836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534160" y="617184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A1C35EEC-EF39-47DD-9144-CDAA59F31A38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3DE4-4C40-4044-8423-DF3DAF2F57E7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标题 1"/>
          <p:cNvSpPr/>
          <p:nvPr/>
        </p:nvSpPr>
        <p:spPr>
          <a:xfrm>
            <a:off x="1531800" y="1268280"/>
            <a:ext cx="60804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01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控制学院高岗述职竞聘报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26920" y="1989000"/>
          <a:ext cx="8064720" cy="1189080"/>
        </p:xfrm>
        <a:graphic>
          <a:graphicData uri="http://schemas.openxmlformats.org/drawingml/2006/table">
            <a:tbl>
              <a:tblPr/>
              <a:tblGrid>
                <a:gridCol w="725760"/>
                <a:gridCol w="930240"/>
                <a:gridCol w="936720"/>
                <a:gridCol w="1244520"/>
                <a:gridCol w="771480"/>
                <a:gridCol w="1440000"/>
                <a:gridCol w="1223640"/>
                <a:gridCol w="792360"/>
              </a:tblGrid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姓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杨春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现岗位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B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考核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优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拟申报岗位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高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4F55C8A4-D3DD-449B-A9C6-03A3C5EC2C8F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04920"/>
            <a:ext cx="75708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上一聘期内标志性成果与亮点工作（不超过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项）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8000" y="1312920"/>
            <a:ext cx="90360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1920" indent="-331920">
              <a:lnSpc>
                <a:spcPct val="125000"/>
              </a:lnSpc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基本要求完成情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年均课内学时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2+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年均课外学时：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00.8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。</a:t>
            </a:r>
            <a:r>
              <a:rPr b="0" lang="zh-CN" sz="1800" spc="-1" strike="noStrike">
                <a:solidFill>
                  <a:srgbClr val="c00000"/>
                </a:solidFill>
                <a:latin typeface="Tahoma"/>
              </a:rPr>
              <a:t>要求≥</a:t>
            </a:r>
            <a:r>
              <a:rPr b="0" lang="en-US" sz="1800" spc="-1" strike="noStrike">
                <a:solidFill>
                  <a:srgbClr val="c00000"/>
                </a:solidFill>
                <a:latin typeface="Tahoma"/>
              </a:rPr>
              <a:t>192</a:t>
            </a:r>
            <a:r>
              <a:rPr b="0" lang="zh-CN" sz="1800" spc="-1" strike="noStrike">
                <a:solidFill>
                  <a:srgbClr val="c00000"/>
                </a:solidFill>
                <a:latin typeface="Tahoma"/>
              </a:rPr>
              <a:t>学时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331920" indent="-33192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一般性成果条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31920" indent="-331920">
              <a:lnSpc>
                <a:spcPct val="125000"/>
              </a:lnSpc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承担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计算机网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控制论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教学，评价优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31920" indent="-331920">
              <a:lnSpc>
                <a:spcPct val="125000"/>
              </a:lnSpc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发表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CI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论文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３篇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P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论文１篇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31920" indent="-331920">
              <a:lnSpc>
                <a:spcPct val="125000"/>
              </a:lnSpc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授权发明专利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件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31920" indent="-331920">
              <a:lnSpc>
                <a:spcPct val="125000"/>
              </a:lnSpc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三年全额提成科研经费之和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272.5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万元。</a:t>
            </a:r>
            <a:r>
              <a:rPr b="0" lang="zh-CN" sz="1700" spc="-1" strike="noStrike">
                <a:solidFill>
                  <a:srgbClr val="c00000"/>
                </a:solidFill>
                <a:latin typeface="Tahoma"/>
              </a:rPr>
              <a:t>要求≥</a:t>
            </a:r>
            <a:r>
              <a:rPr b="0" lang="en-US" sz="1700" spc="-1" strike="noStrike">
                <a:solidFill>
                  <a:srgbClr val="c00000"/>
                </a:solidFill>
                <a:latin typeface="Tahoma"/>
              </a:rPr>
              <a:t>100</a:t>
            </a:r>
            <a:r>
              <a:rPr b="0" lang="zh-CN" sz="1700" spc="-1" strike="noStrike">
                <a:solidFill>
                  <a:srgbClr val="c00000"/>
                </a:solidFill>
                <a:latin typeface="Tahoma"/>
              </a:rPr>
              <a:t>万元（二年）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331920" indent="-33192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主持科研项目情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31920" indent="-331920">
              <a:lnSpc>
                <a:spcPct val="125000"/>
              </a:lnSpc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协助孙老师主持国家自然科学基金重大项目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项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评为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特优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31920" indent="-331920">
              <a:lnSpc>
                <a:spcPct val="125000"/>
              </a:lnSpc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主持国家自然科学基金重大项目课题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项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评为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特优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31920" indent="-331920">
              <a:lnSpc>
                <a:spcPct val="125000"/>
              </a:lnSpc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主持国家自然科学基金重点项目课题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31920" indent="-331920">
              <a:lnSpc>
                <a:spcPct val="125000"/>
              </a:lnSpc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主持国家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63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重大项目课题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项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，通过科技部验收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C7C6CB21-4E63-4B82-AD6B-5523CC513767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下一聘期的预期成效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4560" y="1410840"/>
            <a:ext cx="91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1920" indent="-33192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教学与人才培养工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完成年均课堂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课外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教学时数，发表教学论文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2200" spc="-1" strike="noStrike">
                <a:solidFill>
                  <a:srgbClr val="ff0000"/>
                </a:solidFill>
                <a:latin typeface="Tahoma"/>
              </a:rPr>
              <a:t>篇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积极参与校院级教学教改项目与通识核心课程</a:t>
            </a:r>
            <a:r>
              <a:rPr b="1" lang="zh-CN" sz="2200" spc="-1" strike="noStrike">
                <a:solidFill>
                  <a:srgbClr val="ff0000"/>
                </a:solidFill>
                <a:latin typeface="Tahoma"/>
              </a:rPr>
              <a:t>《控制论》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建设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研究生课程</a:t>
            </a:r>
            <a:r>
              <a:rPr b="1" lang="zh-CN" sz="2200" spc="-1" strike="noStrike">
                <a:solidFill>
                  <a:srgbClr val="ff0000"/>
                </a:solidFill>
                <a:latin typeface="Tahoma"/>
              </a:rPr>
              <a:t>《实时控制计算机网络技术》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建设与提升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1920" indent="-33192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科研与成果奖励工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组织申报国家级重大项目（新增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1-2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项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聘期累计科研经费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280</a:t>
            </a:r>
            <a:r>
              <a:rPr b="1" lang="zh-CN" sz="2200" spc="-1" strike="noStrike">
                <a:solidFill>
                  <a:srgbClr val="ff0000"/>
                </a:solidFill>
                <a:latin typeface="Tahoma"/>
              </a:rPr>
              <a:t>万元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以上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发表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SCI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一区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二区论文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zh-CN" sz="2200" spc="-1" strike="noStrike">
                <a:solidFill>
                  <a:srgbClr val="ff0000"/>
                </a:solidFill>
                <a:latin typeface="Tahoma"/>
              </a:rPr>
              <a:t>篇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以上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授权发明专利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1" lang="zh-CN" sz="2200" spc="-1" strike="noStrike">
                <a:solidFill>
                  <a:srgbClr val="ff0000"/>
                </a:solidFill>
                <a:latin typeface="Tahoma"/>
              </a:rPr>
              <a:t>件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以上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争取省部级科技奖励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2200" spc="-1" strike="noStrike">
                <a:solidFill>
                  <a:srgbClr val="ff0000"/>
                </a:solidFill>
                <a:latin typeface="Tahoma"/>
              </a:rPr>
              <a:t>项、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国家级科技奖励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2200" spc="-1" strike="noStrike">
                <a:solidFill>
                  <a:srgbClr val="ff0000"/>
                </a:solidFill>
                <a:latin typeface="Tahoma"/>
              </a:rPr>
              <a:t>项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社会服务工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积极承担学校和学院的公共事务与服务工作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积极承担“双一流学科”和国家重点实验室的建设工作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01:58:13Z</dcterms:created>
  <dc:creator>gxzhang</dc:creator>
  <dc:description/>
  <dc:language>en-US</dc:language>
  <cp:lastModifiedBy>yangcj</cp:lastModifiedBy>
  <dcterms:modified xsi:type="dcterms:W3CDTF">2018-06-26T04:20:10Z</dcterms:modified>
  <cp:revision>107</cp:revision>
  <dc:subject/>
  <dc:title>述职报告</dc:title>
</cp:coreProperties>
</file>