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FD76-7DE9-411B-BB61-895326EAF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3758-948B-4999-9D72-23A964839B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D26-F1C1-41E8-9002-0BA27165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CF1-5C38-4958-A1EA-395F4EC3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65B-1C43-4012-9A05-D2C817E1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67D4-A595-4820-8238-6B452C8B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8B84-6217-48F0-A125-C7988C0E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65C1-4254-4D3E-AA88-94CB76CB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9725-931D-42C9-9401-400E4C5C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062D-82D7-4672-AE81-9CC0FF03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F95C-EEE5-49D0-AC9F-66934689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A64D-E5DB-4CB0-8D06-A2C21E80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F29E-EC86-45BB-B640-2CC9B832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746-F52F-4959-B883-B5E5AD0A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FEA9-C6FE-4E0D-AC52-A8C43E97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8548-551B-478F-AFF2-8230F256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AE95-F7A7-4EED-967E-4C823C8F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BD3A-FA51-4297-94E1-406E3227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ED76-C10D-4911-B461-9FC2215C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9D0-7DD0-425D-993A-DE1C7B2E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4C0-25C7-4D38-B66B-68814D27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B46-EA11-4772-B556-A79CD0D7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D12-1EA5-4F76-AFC5-E6F49FFD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507D-7DF5-4180-AC42-4E4B8145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32A-DCB5-47BE-9BC7-834EA629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578-C8F2-45C6-9510-C860F529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428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548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66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367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5228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873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6836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17184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1178F93A-B62A-4532-AB9F-7EAC0F5A5965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81AE-3443-46F5-8882-B0EBE42F15B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标题 1"/>
          <p:cNvSpPr/>
          <p:nvPr/>
        </p:nvSpPr>
        <p:spPr>
          <a:xfrm>
            <a:off x="1531800" y="1268280"/>
            <a:ext cx="6080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01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控制学院高岗述职竞聘报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26920" y="1989000"/>
          <a:ext cx="8066160" cy="1189080"/>
        </p:xfrm>
        <a:graphic>
          <a:graphicData uri="http://schemas.openxmlformats.org/drawingml/2006/table">
            <a:tbl>
              <a:tblPr/>
              <a:tblGrid>
                <a:gridCol w="727200"/>
                <a:gridCol w="928800"/>
                <a:gridCol w="936720"/>
                <a:gridCol w="1244520"/>
                <a:gridCol w="771480"/>
                <a:gridCol w="1441440"/>
                <a:gridCol w="1224000"/>
                <a:gridCol w="792000"/>
              </a:tblGrid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周建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现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考核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良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拟申报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B5581D3A-5370-48E2-BFC3-A9B134815A81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04920"/>
            <a:ext cx="7570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上一聘期内标志性成果与亮点工作（不超过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项）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同侧圆角矩形 31"/>
          <p:cNvSpPr/>
          <p:nvPr/>
        </p:nvSpPr>
        <p:spPr>
          <a:xfrm rot="5400000">
            <a:off x="3800160" y="-1704960"/>
            <a:ext cx="957240" cy="8199720"/>
          </a:xfrm>
          <a:custGeom>
            <a:avLst/>
            <a:gdLst/>
            <a:ahLst/>
            <a:rect l="l" t="t" r="r" b="b"/>
            <a:pathLst>
              <a:path w="957262" h="8199437">
                <a:moveTo>
                  <a:pt x="159547" y="0"/>
                </a:moveTo>
                <a:lnTo>
                  <a:pt x="797715" y="0"/>
                </a:lnTo>
                <a:cubicBezTo>
                  <a:pt x="885830" y="0"/>
                  <a:pt x="957262" y="71432"/>
                  <a:pt x="957262" y="159547"/>
                </a:cubicBezTo>
                <a:lnTo>
                  <a:pt x="957262" y="8199437"/>
                </a:lnTo>
                <a:lnTo>
                  <a:pt x="957262" y="8199437"/>
                </a:lnTo>
                <a:lnTo>
                  <a:pt x="0" y="8199437"/>
                </a:lnTo>
                <a:lnTo>
                  <a:pt x="0" y="8199437"/>
                </a:lnTo>
                <a:lnTo>
                  <a:pt x="0" y="159547"/>
                </a:lnTo>
                <a:cubicBezTo>
                  <a:pt x="0" y="71432"/>
                  <a:pt x="71432" y="0"/>
                  <a:pt x="159547" y="0"/>
                </a:cubicBezTo>
                <a:close/>
              </a:path>
            </a:pathLst>
          </a:custGeom>
          <a:solidFill>
            <a:srgbClr val="fff4c8">
              <a:alpha val="90000"/>
            </a:srgbClr>
          </a:solidFill>
          <a:ln w="25560">
            <a:solidFill>
              <a:srgbClr val="cbf5e1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同侧圆角矩形 31"/>
          <p:cNvSpPr/>
          <p:nvPr/>
        </p:nvSpPr>
        <p:spPr>
          <a:xfrm rot="5400000">
            <a:off x="3530160" y="218880"/>
            <a:ext cx="1719360" cy="8288280"/>
          </a:xfrm>
          <a:custGeom>
            <a:avLst/>
            <a:gdLst/>
            <a:ahLst/>
            <a:rect l="l" t="t" r="r" b="b"/>
            <a:pathLst>
              <a:path w="1719262" h="8288337">
                <a:moveTo>
                  <a:pt x="286549" y="0"/>
                </a:moveTo>
                <a:lnTo>
                  <a:pt x="1432713" y="0"/>
                </a:lnTo>
                <a:cubicBezTo>
                  <a:pt x="1590970" y="0"/>
                  <a:pt x="1719262" y="128292"/>
                  <a:pt x="1719262" y="286549"/>
                </a:cubicBezTo>
                <a:lnTo>
                  <a:pt x="1719262" y="8288337"/>
                </a:lnTo>
                <a:lnTo>
                  <a:pt x="1719262" y="8288337"/>
                </a:lnTo>
                <a:lnTo>
                  <a:pt x="0" y="8288337"/>
                </a:lnTo>
                <a:lnTo>
                  <a:pt x="0" y="8288337"/>
                </a:lnTo>
                <a:lnTo>
                  <a:pt x="0" y="286549"/>
                </a:lnTo>
                <a:cubicBezTo>
                  <a:pt x="0" y="128292"/>
                  <a:pt x="128292" y="0"/>
                  <a:pt x="286549" y="0"/>
                </a:cubicBezTo>
                <a:close/>
              </a:path>
            </a:pathLst>
          </a:custGeom>
          <a:solidFill>
            <a:srgbClr val="fff4c8">
              <a:alpha val="90000"/>
            </a:srgbClr>
          </a:solidFill>
          <a:ln w="25560">
            <a:solidFill>
              <a:srgbClr val="cbf5e1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文本框 2"/>
          <p:cNvSpPr/>
          <p:nvPr/>
        </p:nvSpPr>
        <p:spPr>
          <a:xfrm>
            <a:off x="298440" y="1434960"/>
            <a:ext cx="73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教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文本框 99"/>
          <p:cNvSpPr/>
          <p:nvPr/>
        </p:nvSpPr>
        <p:spPr>
          <a:xfrm>
            <a:off x="250920" y="2011320"/>
            <a:ext cx="7832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主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门本科生课程，聘期评估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均为优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课程建设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资金（本、硕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担任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班主任，获校级先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；课外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37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文本框 2"/>
          <p:cNvSpPr/>
          <p:nvPr/>
        </p:nvSpPr>
        <p:spPr>
          <a:xfrm>
            <a:off x="331920" y="3068640"/>
            <a:ext cx="73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科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文本框 99"/>
          <p:cNvSpPr/>
          <p:nvPr/>
        </p:nvSpPr>
        <p:spPr>
          <a:xfrm>
            <a:off x="317520" y="3578400"/>
            <a:ext cx="8217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获得国家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重大科学仪器专项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22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万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支撑计划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195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万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重点研发计划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16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万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buClr>
                <a:srgbClr val="3333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多模式离子化源，解决质谱全分析溯源难题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验收意见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国际领先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微纳晶体形貌尺寸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可控制备技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单分子水平高灵敏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SERS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检测技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" name="组合 1"/>
          <p:cNvGrpSpPr/>
          <p:nvPr/>
        </p:nvGrpSpPr>
        <p:grpSpPr>
          <a:xfrm>
            <a:off x="390600" y="5300640"/>
            <a:ext cx="7710480" cy="1274760"/>
            <a:chOff x="390600" y="5300640"/>
            <a:chExt cx="7710480" cy="1274760"/>
          </a:xfrm>
        </p:grpSpPr>
        <p:grpSp>
          <p:nvGrpSpPr>
            <p:cNvPr id="117" name="组合 3"/>
            <p:cNvGrpSpPr/>
            <p:nvPr/>
          </p:nvGrpSpPr>
          <p:grpSpPr>
            <a:xfrm>
              <a:off x="390600" y="5300640"/>
              <a:ext cx="7710480" cy="1274760"/>
              <a:chOff x="390600" y="5300640"/>
              <a:chExt cx="7710480" cy="1274760"/>
            </a:xfrm>
          </p:grpSpPr>
          <p:grpSp>
            <p:nvGrpSpPr>
              <p:cNvPr id="118" name="组合 2"/>
              <p:cNvGrpSpPr/>
              <p:nvPr/>
            </p:nvGrpSpPr>
            <p:grpSpPr>
              <a:xfrm>
                <a:off x="390600" y="5300640"/>
                <a:ext cx="7710480" cy="793800"/>
                <a:chOff x="390600" y="5300640"/>
                <a:chExt cx="7710480" cy="793800"/>
              </a:xfrm>
            </p:grpSpPr>
            <p:grpSp>
              <p:nvGrpSpPr>
                <p:cNvPr id="119" name="组合 1"/>
                <p:cNvGrpSpPr/>
                <p:nvPr/>
              </p:nvGrpSpPr>
              <p:grpSpPr>
                <a:xfrm>
                  <a:off x="390600" y="5300640"/>
                  <a:ext cx="7710480" cy="793800"/>
                  <a:chOff x="390600" y="5300640"/>
                  <a:chExt cx="7710480" cy="793800"/>
                </a:xfrm>
              </p:grpSpPr>
              <p:pic>
                <p:nvPicPr>
                  <p:cNvPr id="120" name="图片 14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90600" y="5300640"/>
                    <a:ext cx="75492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1" name="图片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0400" y="5300640"/>
                    <a:ext cx="75492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2" name="图片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6480" y="5351400"/>
                    <a:ext cx="662760" cy="6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3" name="图片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6360" y="5382000"/>
                    <a:ext cx="655560" cy="6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4" name="图片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4720" y="5423760"/>
                    <a:ext cx="611640" cy="6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5" name="图片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2720" y="5460120"/>
                    <a:ext cx="581400" cy="6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6" name="图片 2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68280" y="5473800"/>
                    <a:ext cx="568440" cy="59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7" name="图片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7080" y="5495760"/>
                    <a:ext cx="50400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28" name="右箭头 28"/>
                <p:cNvSpPr/>
                <p:nvPr/>
              </p:nvSpPr>
              <p:spPr>
                <a:xfrm>
                  <a:off x="1244880" y="5550120"/>
                  <a:ext cx="180000" cy="377640"/>
                </a:xfrm>
                <a:prstGeom prst="rightArrow">
                  <a:avLst>
                    <a:gd name="adj1" fmla="val 50000"/>
                    <a:gd name="adj2" fmla="val 50000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marL="343080" indent="-343080" algn="ctr">
                    <a:lnSpc>
                      <a:spcPct val="115000"/>
                    </a:lnSpc>
                    <a:spcBef>
                      <a:spcPts val="1500"/>
                    </a:spcBef>
                    <a:buClr>
                      <a:srgbClr val="ff0000"/>
                    </a:buClr>
                    <a:buSzPct val="60000"/>
                    <a:buFont typeface="Calibri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右箭头 34"/>
                <p:cNvSpPr/>
                <p:nvPr/>
              </p:nvSpPr>
              <p:spPr>
                <a:xfrm>
                  <a:off x="2351520" y="5550120"/>
                  <a:ext cx="180000" cy="377640"/>
                </a:xfrm>
                <a:prstGeom prst="rightArrow">
                  <a:avLst>
                    <a:gd name="adj1" fmla="val 50000"/>
                    <a:gd name="adj2" fmla="val 50000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marL="343080" indent="-343080" algn="ctr">
                    <a:lnSpc>
                      <a:spcPct val="115000"/>
                    </a:lnSpc>
                    <a:spcBef>
                      <a:spcPts val="1500"/>
                    </a:spcBef>
                    <a:buClr>
                      <a:srgbClr val="ff0000"/>
                    </a:buClr>
                    <a:buSzPct val="60000"/>
                    <a:buFont typeface="Calibri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右箭头 35"/>
                <p:cNvSpPr/>
                <p:nvPr/>
              </p:nvSpPr>
              <p:spPr>
                <a:xfrm>
                  <a:off x="5364720" y="5550120"/>
                  <a:ext cx="180000" cy="377640"/>
                </a:xfrm>
                <a:prstGeom prst="rightArrow">
                  <a:avLst>
                    <a:gd name="adj1" fmla="val 50000"/>
                    <a:gd name="adj2" fmla="val 50000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marL="343080" indent="-343080" algn="ctr">
                    <a:lnSpc>
                      <a:spcPct val="115000"/>
                    </a:lnSpc>
                    <a:spcBef>
                      <a:spcPts val="1500"/>
                    </a:spcBef>
                    <a:buClr>
                      <a:srgbClr val="ff0000"/>
                    </a:buClr>
                    <a:buSzPct val="60000"/>
                    <a:buFont typeface="Calibri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" name="右箭头 36"/>
                <p:cNvSpPr/>
                <p:nvPr/>
              </p:nvSpPr>
              <p:spPr>
                <a:xfrm>
                  <a:off x="7309080" y="5550120"/>
                  <a:ext cx="180000" cy="377640"/>
                </a:xfrm>
                <a:prstGeom prst="rightArrow">
                  <a:avLst>
                    <a:gd name="adj1" fmla="val 50000"/>
                    <a:gd name="adj2" fmla="val 50000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marL="343080" indent="-343080" algn="ctr">
                    <a:lnSpc>
                      <a:spcPct val="115000"/>
                    </a:lnSpc>
                    <a:spcBef>
                      <a:spcPts val="1500"/>
                    </a:spcBef>
                    <a:buClr>
                      <a:srgbClr val="ff0000"/>
                    </a:buClr>
                    <a:buSzPct val="60000"/>
                    <a:buFont typeface="Calibri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" name="右箭头 37"/>
                <p:cNvSpPr/>
                <p:nvPr/>
              </p:nvSpPr>
              <p:spPr>
                <a:xfrm>
                  <a:off x="6373080" y="5550120"/>
                  <a:ext cx="180000" cy="377640"/>
                </a:xfrm>
                <a:prstGeom prst="rightArrow">
                  <a:avLst>
                    <a:gd name="adj1" fmla="val 50000"/>
                    <a:gd name="adj2" fmla="val 50000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marL="343080" indent="-343080" algn="ctr">
                    <a:lnSpc>
                      <a:spcPct val="115000"/>
                    </a:lnSpc>
                    <a:spcBef>
                      <a:spcPts val="1500"/>
                    </a:spcBef>
                    <a:buClr>
                      <a:srgbClr val="ff0000"/>
                    </a:buClr>
                    <a:buSzPct val="60000"/>
                    <a:buFont typeface="Calibri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右箭头 38"/>
                <p:cNvSpPr/>
                <p:nvPr/>
              </p:nvSpPr>
              <p:spPr>
                <a:xfrm>
                  <a:off x="3384000" y="5550120"/>
                  <a:ext cx="180000" cy="377640"/>
                </a:xfrm>
                <a:prstGeom prst="rightArrow">
                  <a:avLst>
                    <a:gd name="adj1" fmla="val 50000"/>
                    <a:gd name="adj2" fmla="val 50000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marL="343080" indent="-343080" algn="ctr">
                    <a:lnSpc>
                      <a:spcPct val="115000"/>
                    </a:lnSpc>
                    <a:spcBef>
                      <a:spcPts val="1500"/>
                    </a:spcBef>
                    <a:buClr>
                      <a:srgbClr val="ff0000"/>
                    </a:buClr>
                    <a:buSzPct val="60000"/>
                    <a:buFont typeface="Calibri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34" name="右箭头 10"/>
              <p:cNvSpPr/>
              <p:nvPr/>
            </p:nvSpPr>
            <p:spPr>
              <a:xfrm>
                <a:off x="1533600" y="6431400"/>
                <a:ext cx="6282360" cy="144000"/>
              </a:xfrm>
              <a:prstGeom prst="rightArrow">
                <a:avLst>
                  <a:gd name="adj1" fmla="val 50000"/>
                  <a:gd name="adj2" fmla="val 47667"/>
                </a:avLst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marL="343080" indent="-343080" algn="ctr">
                  <a:lnSpc>
                    <a:spcPct val="115000"/>
                  </a:lnSpc>
                  <a:spcBef>
                    <a:spcPts val="1500"/>
                  </a:spcBef>
                  <a:buClr>
                    <a:srgbClr val="ff0000"/>
                  </a:buClr>
                  <a:buSzPct val="60000"/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TextBox 11"/>
              <p:cNvSpPr/>
              <p:nvPr/>
            </p:nvSpPr>
            <p:spPr>
              <a:xfrm>
                <a:off x="2916720" y="6097680"/>
                <a:ext cx="32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eaction time increasing 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" name="右箭头 35"/>
            <p:cNvSpPr/>
            <p:nvPr/>
          </p:nvSpPr>
          <p:spPr>
            <a:xfrm>
              <a:off x="4356720" y="5540400"/>
              <a:ext cx="181440" cy="379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15000"/>
                </a:lnSpc>
                <a:spcBef>
                  <a:spcPts val="1500"/>
                </a:spcBef>
                <a:buClr>
                  <a:srgbClr val="ff0000"/>
                </a:buClr>
                <a:buSzPct val="60000"/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37" name="Picture 4" descr=""/>
          <p:cNvPicPr/>
          <p:nvPr/>
        </p:nvPicPr>
        <p:blipFill>
          <a:blip r:embed="rId9"/>
          <a:stretch/>
        </p:blipFill>
        <p:spPr>
          <a:xfrm>
            <a:off x="6659640" y="2738520"/>
            <a:ext cx="2422440" cy="1627200"/>
          </a:xfrm>
          <a:prstGeom prst="rect">
            <a:avLst/>
          </a:prstGeom>
          <a:ln w="0">
            <a:noFill/>
          </a:ln>
        </p:spPr>
      </p:pic>
      <p:sp>
        <p:nvSpPr>
          <p:cNvPr id="138" name="同侧圆角矩形 31"/>
          <p:cNvSpPr/>
          <p:nvPr/>
        </p:nvSpPr>
        <p:spPr>
          <a:xfrm rot="5400000">
            <a:off x="7423920" y="5271480"/>
            <a:ext cx="704880" cy="2217600"/>
          </a:xfrm>
          <a:custGeom>
            <a:avLst/>
            <a:gdLst/>
            <a:ahLst/>
            <a:rect l="l" t="t" r="r" b="b"/>
            <a:pathLst>
              <a:path w="704850" h="2217738">
                <a:moveTo>
                  <a:pt x="117477" y="0"/>
                </a:moveTo>
                <a:lnTo>
                  <a:pt x="587373" y="0"/>
                </a:lnTo>
                <a:cubicBezTo>
                  <a:pt x="652254" y="0"/>
                  <a:pt x="704850" y="52596"/>
                  <a:pt x="704850" y="117477"/>
                </a:cubicBezTo>
                <a:lnTo>
                  <a:pt x="704850" y="1937567"/>
                </a:lnTo>
                <a:cubicBezTo>
                  <a:pt x="704850" y="2092301"/>
                  <a:pt x="579413" y="2217738"/>
                  <a:pt x="424679" y="2217738"/>
                </a:cubicBezTo>
                <a:lnTo>
                  <a:pt x="280171" y="2217738"/>
                </a:lnTo>
                <a:cubicBezTo>
                  <a:pt x="125437" y="2217738"/>
                  <a:pt x="0" y="2092301"/>
                  <a:pt x="0" y="1937567"/>
                </a:cubicBezTo>
                <a:lnTo>
                  <a:pt x="0" y="117477"/>
                </a:lnTo>
                <a:cubicBezTo>
                  <a:pt x="0" y="52596"/>
                  <a:pt x="52596" y="0"/>
                  <a:pt x="117477" y="0"/>
                </a:cubicBezTo>
                <a:close/>
              </a:path>
            </a:pathLst>
          </a:custGeom>
          <a:solidFill>
            <a:srgbClr val="fff4c8">
              <a:alpha val="90000"/>
            </a:srgbClr>
          </a:solidFill>
          <a:ln w="25560">
            <a:solidFill>
              <a:srgbClr val="cbf5e1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文本框 1"/>
          <p:cNvSpPr/>
          <p:nvPr/>
        </p:nvSpPr>
        <p:spPr>
          <a:xfrm>
            <a:off x="6843600" y="6137280"/>
            <a:ext cx="208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Chem.Comm</a:t>
            </a:r>
            <a:r>
              <a:rPr b="0" lang="zh-CN" sz="14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6.29</a:t>
            </a:r>
            <a:r>
              <a:rPr b="0" lang="zh-CN" sz="1400" spc="-1" strike="noStrike">
                <a:solidFill>
                  <a:srgbClr val="ff0000"/>
                </a:solidFill>
                <a:latin typeface="Tahoma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Cryst.Comm</a:t>
            </a:r>
            <a:r>
              <a:rPr b="0" lang="zh-CN" sz="14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5.30</a:t>
            </a:r>
            <a:r>
              <a:rPr b="0" lang="zh-CN" sz="1400" spc="-1" strike="noStrike">
                <a:solidFill>
                  <a:srgbClr val="ff0000"/>
                </a:solidFill>
                <a:latin typeface="Tahoma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94384E0F-5B22-42C6-BC23-91DEACBA091B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下一聘期的预期成效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同侧圆角矩形 4"/>
          <p:cNvSpPr/>
          <p:nvPr/>
        </p:nvSpPr>
        <p:spPr>
          <a:xfrm rot="5400000">
            <a:off x="2405160" y="-388800"/>
            <a:ext cx="4363920" cy="8542080"/>
          </a:xfrm>
          <a:custGeom>
            <a:avLst/>
            <a:gdLst/>
            <a:ahLst/>
            <a:rect l="l" t="t" r="r" b="b"/>
            <a:pathLst>
              <a:path w="4364037" h="8542337">
                <a:moveTo>
                  <a:pt x="727354" y="0"/>
                </a:moveTo>
                <a:lnTo>
                  <a:pt x="3636683" y="0"/>
                </a:lnTo>
                <a:cubicBezTo>
                  <a:pt x="4038390" y="0"/>
                  <a:pt x="4364037" y="325647"/>
                  <a:pt x="4364037" y="727354"/>
                </a:cubicBezTo>
                <a:lnTo>
                  <a:pt x="4364037" y="8542337"/>
                </a:lnTo>
                <a:lnTo>
                  <a:pt x="4364037" y="8542337"/>
                </a:lnTo>
                <a:lnTo>
                  <a:pt x="0" y="8542337"/>
                </a:lnTo>
                <a:lnTo>
                  <a:pt x="0" y="8542337"/>
                </a:lnTo>
                <a:lnTo>
                  <a:pt x="0" y="727354"/>
                </a:lnTo>
                <a:cubicBezTo>
                  <a:pt x="0" y="325647"/>
                  <a:pt x="325647" y="0"/>
                  <a:pt x="727354" y="0"/>
                </a:cubicBezTo>
                <a:close/>
              </a:path>
            </a:pathLst>
          </a:custGeom>
          <a:solidFill>
            <a:srgbClr val="fff4c8">
              <a:alpha val="90000"/>
            </a:srgbClr>
          </a:solidFill>
          <a:ln w="25560">
            <a:solidFill>
              <a:srgbClr val="cbf5e1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文本框 99"/>
          <p:cNvSpPr/>
          <p:nvPr/>
        </p:nvSpPr>
        <p:spPr>
          <a:xfrm>
            <a:off x="566640" y="2421000"/>
            <a:ext cx="812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国家重点研发计划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答辩），省重大（申请中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学科国际化建设（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剑桥大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高水平论文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已发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篇，争取子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篇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完成国家、省重大项目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构建汇聚学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分子医学工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学校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通识核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课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门；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机器人专业本科课程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公安部重点实验室学术委员会副主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1:58:13Z</dcterms:created>
  <dc:creator>gxzhang</dc:creator>
  <dc:description/>
  <dc:language>en-US</dc:language>
  <cp:lastModifiedBy>zhou</cp:lastModifiedBy>
  <dcterms:modified xsi:type="dcterms:W3CDTF">2018-06-27T14:11:20Z</dcterms:modified>
  <cp:revision>98</cp:revision>
  <dc:subject/>
  <dc:title>述职报告</dc:title>
</cp:coreProperties>
</file>