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6641-EE8B-488D-A66B-0AB1F87A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CBFE-D9EB-44E7-A738-C22FD1CA24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下一步的研究将围绕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智能工厂要解决的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问题开展人才培养和关键技术研发。积极参与各类论坛活动，扩大浙江大学在智能制造研究领域的影响力。全面完成聘期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62AA-162E-44E0-999F-DD7E395FCF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814-92BC-45D4-AEE7-524F5E38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ABA-B214-4F43-97AF-88606D0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9F6-3E03-4B88-BBAE-C5FBC089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5D3-BA3B-42DE-A1B4-93F87C08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942-F0A3-4F20-89E4-BDBD4F22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C88E-8AA1-40E0-89FF-70DA358A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CF1A-1B4E-451A-9AFF-89FE4353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FEA1-C4C5-43EC-AB89-48330AAA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E0BC-F3F7-41C4-8A58-0A1A953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DD8C-4FBB-436A-92AF-AD71EFB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2D3F-661C-4045-8DBB-4E9F5D6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CA2-5AAE-4B0E-A170-A5CA7C2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63CF-1624-40E5-B6F4-D247923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C8B1-E117-4A45-883D-95DAAF9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C0AC-F10D-4FE9-BDEC-4204A32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6B8C-104C-4793-A90D-CECAE4AF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89A9-84A1-4C78-9A4A-3890D8C8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A40-80B6-4C3F-836A-24243B78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1E2-4FC5-48BA-BC29-78824C47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E42-C4C7-4BBA-9EA6-DC85B10D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09F-7B28-4D5C-B43E-F9B52BB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B25-303E-47FC-9D59-9E38516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C8A-B60C-4192-8AED-D1330E8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FC0-45CD-4990-A418-7F0FDD3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0C97C015-4D76-4DA5-9F6F-35217E9540A3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91C3-66F2-4A1B-86A0-839B593803D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荣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7"/>
          <p:cNvSpPr/>
          <p:nvPr/>
        </p:nvSpPr>
        <p:spPr>
          <a:xfrm>
            <a:off x="1763640" y="4221000"/>
            <a:ext cx="5256360" cy="55116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教学、科研、标志性成果均达到聘岗目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42453A14-3B6F-40DB-9DD4-D94129E66466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图片 38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410832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8"/>
          <p:cNvSpPr/>
          <p:nvPr/>
        </p:nvSpPr>
        <p:spPr>
          <a:xfrm>
            <a:off x="395280" y="12682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在科研方面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研究智能制造多维价值网络模型，推进基础理论和关键技术的落地应用，开启自动化服务新模式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根据生产数据实时校正模型并更新决策方案，从而实现决策跟踪并降低生产效益波动。围绕数据、技术、业务流程、组织结构四要素互动创新和持续改进，识别和打造企业核心竞争力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矩形 38"/>
          <p:cNvSpPr/>
          <p:nvPr/>
        </p:nvSpPr>
        <p:spPr>
          <a:xfrm>
            <a:off x="468360" y="42926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在人才培养方面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以能力打造为牵引，重构人才培训、培养方式，探索新的人才服务模式和组织管理机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课堂教学引入智能制造及智能工厂最前沿技术；指导智能工厂实验平台建设；培养创新型高级智造人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2" descr="E:\视频照片等\实验照片\老楼213\DSC_3520.JPG"/>
          <p:cNvPicPr/>
          <p:nvPr/>
        </p:nvPicPr>
        <p:blipFill>
          <a:blip r:embed="rId2"/>
          <a:stretch/>
        </p:blipFill>
        <p:spPr>
          <a:xfrm>
            <a:off x="4932360" y="4221000"/>
            <a:ext cx="3560760" cy="2254320"/>
          </a:xfrm>
          <a:prstGeom prst="rect">
            <a:avLst/>
          </a:prstGeom>
          <a:ln w="0">
            <a:noFill/>
          </a:ln>
        </p:spPr>
      </p:pic>
      <p:sp>
        <p:nvSpPr>
          <p:cNvPr id="115" name="矩形 44"/>
          <p:cNvSpPr/>
          <p:nvPr/>
        </p:nvSpPr>
        <p:spPr>
          <a:xfrm>
            <a:off x="539640" y="1341360"/>
            <a:ext cx="8280360" cy="4249800"/>
          </a:xfrm>
          <a:prstGeom prst="rect">
            <a:avLst/>
          </a:prstGeom>
          <a:solidFill>
            <a:srgbClr val="ffe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智能工厂参考模型和管控技术研究成果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参与（</a:t>
            </a:r>
            <a:r>
              <a:rPr b="1" lang="en-US" sz="14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黑体"/>
                <a:ea typeface="黑体"/>
              </a:rPr>
              <a:t>2016YFB0301800 </a:t>
            </a: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）煤制乙炔国家重大研发计划项目，提供全生命周期智能管控技术；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主持风险识别与安全应急</a:t>
            </a:r>
            <a:r>
              <a:rPr b="1" lang="en-US" sz="1400" spc="-1" strike="noStrike">
                <a:solidFill>
                  <a:srgbClr val="333333"/>
                </a:solidFill>
                <a:latin typeface="黑体"/>
                <a:ea typeface="黑体"/>
              </a:rPr>
              <a:t>863</a:t>
            </a: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项目安全模型和决策算法研制，应用系统已通过专家验收；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多维价值网络模型和价值流定量评估方法，为智能工厂新模式建设项目的规划和建设提供了方法论的指导，神华宁煤、巨化集团工信部新模式项目的技术咨询服务合同合计</a:t>
            </a:r>
            <a:r>
              <a:rPr b="1" lang="en-US" sz="1400" spc="-1" strike="noStrike">
                <a:solidFill>
                  <a:srgbClr val="333333"/>
                </a:solidFill>
                <a:latin typeface="黑体"/>
                <a:ea typeface="黑体"/>
              </a:rPr>
              <a:t>150</a:t>
            </a: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万元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成果发表在国内期刊智能制造专刊发文</a:t>
            </a:r>
            <a:r>
              <a:rPr b="1" lang="en-US" sz="14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篇，国际会议宣读</a:t>
            </a:r>
            <a:r>
              <a:rPr b="1" lang="en-US" sz="1400" spc="-1" strike="noStrike">
                <a:solidFill>
                  <a:srgbClr val="333333"/>
                </a:solidFill>
                <a:latin typeface="黑体"/>
                <a:ea typeface="黑体"/>
              </a:rPr>
              <a:t>5</a:t>
            </a: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次，在行业性全国大会作主题报告</a:t>
            </a:r>
            <a:r>
              <a:rPr b="1" lang="en-US" sz="14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次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数据驱动的生产决策在线优化成果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研发计划调度集成优化系列算法，发表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SCI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论文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篇其中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Top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论文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篇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成为燕山石化智能工厂生产与能源集成调度系统核心算法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成为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973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项目（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2012CB720506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）研究亮点之一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2017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年度获批国家基金创新团队项目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(61621002)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，成为重点内容之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黑体"/>
                <a:ea typeface="黑体"/>
              </a:rPr>
              <a:t>人才培养及教学方面的成果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参与设计的智能工厂实验平台被国家工信部授予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2017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年度“中德智能制造人才培养示范项目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 algn="just">
              <a:lnSpc>
                <a:spcPct val="15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两篇智能工厂实验室建设教学研究论文被</a:t>
            </a: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IPS</a:t>
            </a:r>
            <a:r>
              <a:rPr b="1" lang="zh-CN" sz="1400" spc="-1" strike="noStrike">
                <a:solidFill>
                  <a:srgbClr val="333333"/>
                </a:solidFill>
                <a:latin typeface="Tahoma"/>
              </a:rPr>
              <a:t>国际学术会议评为“最佳论文奖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E1A1796E-300E-46B4-885B-D6F747E9A426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544680" y="1968480"/>
          <a:ext cx="7905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968480"/>
                    <a:ext cx="7905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线形标注 1 4"/>
          <p:cNvSpPr/>
          <p:nvPr/>
        </p:nvSpPr>
        <p:spPr>
          <a:xfrm>
            <a:off x="465120" y="6031080"/>
            <a:ext cx="4032360" cy="349200"/>
          </a:xfrm>
          <a:prstGeom prst="borderCallout1">
            <a:avLst>
              <a:gd name="adj1" fmla="val 18750"/>
              <a:gd name="adj2" fmla="val -8333"/>
              <a:gd name="adj3" fmla="val -208027"/>
              <a:gd name="adj4" fmla="val 25722"/>
            </a:avLst>
          </a:prstGeom>
          <a:solidFill>
            <a:srgbClr val="fff5cc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基于仿真的优化的平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线形标注 1 5"/>
          <p:cNvSpPr/>
          <p:nvPr/>
        </p:nvSpPr>
        <p:spPr>
          <a:xfrm>
            <a:off x="4622760" y="5229360"/>
            <a:ext cx="2500200" cy="347400"/>
          </a:xfrm>
          <a:prstGeom prst="borderCallout1">
            <a:avLst>
              <a:gd name="adj1" fmla="val 18750"/>
              <a:gd name="adj2" fmla="val -8333"/>
              <a:gd name="adj3" fmla="val -95777"/>
              <a:gd name="adj4" fmla="val -9314"/>
            </a:avLst>
          </a:prstGeom>
          <a:solidFill>
            <a:srgbClr val="fff5cc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计划与控制的协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线形标注 1 6"/>
          <p:cNvSpPr/>
          <p:nvPr/>
        </p:nvSpPr>
        <p:spPr>
          <a:xfrm>
            <a:off x="4765680" y="4673520"/>
            <a:ext cx="2305080" cy="347760"/>
          </a:xfrm>
          <a:prstGeom prst="borderCallout1">
            <a:avLst>
              <a:gd name="adj1" fmla="val 18750"/>
              <a:gd name="adj2" fmla="val -8333"/>
              <a:gd name="adj3" fmla="val -131370"/>
              <a:gd name="adj4" fmla="val -5884"/>
            </a:avLst>
          </a:pr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控制性能最优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线形标注 1 7"/>
          <p:cNvSpPr/>
          <p:nvPr/>
        </p:nvSpPr>
        <p:spPr>
          <a:xfrm>
            <a:off x="6310440" y="1771560"/>
            <a:ext cx="2595600" cy="349200"/>
          </a:xfrm>
          <a:prstGeom prst="borderCallout1">
            <a:avLst>
              <a:gd name="adj1" fmla="val 18750"/>
              <a:gd name="adj2" fmla="val -8333"/>
              <a:gd name="adj3" fmla="val 276560"/>
              <a:gd name="adj4" fmla="val -11166"/>
            </a:avLst>
          </a:prstGeom>
          <a:solidFill>
            <a:srgbClr val="fff5cc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生产绩效指标体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线形标注 1 8"/>
          <p:cNvSpPr/>
          <p:nvPr/>
        </p:nvSpPr>
        <p:spPr>
          <a:xfrm>
            <a:off x="4765680" y="1328760"/>
            <a:ext cx="2736720" cy="347760"/>
          </a:xfrm>
          <a:prstGeom prst="borderCallout1">
            <a:avLst>
              <a:gd name="adj1" fmla="val 18750"/>
              <a:gd name="adj2" fmla="val -8333"/>
              <a:gd name="adj3" fmla="val 194425"/>
              <a:gd name="adj4" fmla="val -2453"/>
            </a:avLst>
          </a:pr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物理、社会信息的感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线形标注 1 9"/>
          <p:cNvSpPr/>
          <p:nvPr/>
        </p:nvSpPr>
        <p:spPr>
          <a:xfrm>
            <a:off x="1382760" y="1090440"/>
            <a:ext cx="2735280" cy="347760"/>
          </a:xfrm>
          <a:prstGeom prst="borderCallout1">
            <a:avLst>
              <a:gd name="adj1" fmla="val 18750"/>
              <a:gd name="adj2" fmla="val -8333"/>
              <a:gd name="adj3" fmla="val 265606"/>
              <a:gd name="adj4" fmla="val 9032"/>
            </a:avLst>
          </a:pr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异构信息的规范和提取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线形标注 1 10"/>
          <p:cNvSpPr/>
          <p:nvPr/>
        </p:nvSpPr>
        <p:spPr>
          <a:xfrm>
            <a:off x="1670040" y="1521000"/>
            <a:ext cx="2736720" cy="347400"/>
          </a:xfrm>
          <a:prstGeom prst="borderCallout1">
            <a:avLst>
              <a:gd name="adj1" fmla="val 18750"/>
              <a:gd name="adj2" fmla="val -8333"/>
              <a:gd name="adj3" fmla="val 134194"/>
              <a:gd name="adj4" fmla="val 2768"/>
            </a:avLst>
          </a:pr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面向企业决策的挖掘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线形标注 1 11"/>
          <p:cNvSpPr/>
          <p:nvPr/>
        </p:nvSpPr>
        <p:spPr>
          <a:xfrm>
            <a:off x="6350040" y="2205000"/>
            <a:ext cx="2556000" cy="347760"/>
          </a:xfrm>
          <a:prstGeom prst="borderCallout1">
            <a:avLst>
              <a:gd name="adj1" fmla="val 18750"/>
              <a:gd name="adj2" fmla="val -8333"/>
              <a:gd name="adj3" fmla="val 150620"/>
              <a:gd name="adj4" fmla="val -3148"/>
            </a:avLst>
          </a:pr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：生产过程的知识挖掘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十字星 12"/>
          <p:cNvSpPr/>
          <p:nvPr/>
        </p:nvSpPr>
        <p:spPr>
          <a:xfrm>
            <a:off x="157320" y="6031080"/>
            <a:ext cx="288720" cy="349200"/>
          </a:xfrm>
          <a:custGeom>
            <a:avLst/>
            <a:gdLst>
              <a:gd name="textAreaLeft" fmla="*/ 118800 w 288720"/>
              <a:gd name="textAreaRight" fmla="*/ 169920 w 2887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十字星 13"/>
          <p:cNvSpPr/>
          <p:nvPr/>
        </p:nvSpPr>
        <p:spPr>
          <a:xfrm>
            <a:off x="6062760" y="1784520"/>
            <a:ext cx="287280" cy="34740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3280 h 347400"/>
              <a:gd name="textAreaBottom" fmla="*/ 204120 h 34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十字星 14"/>
          <p:cNvSpPr/>
          <p:nvPr/>
        </p:nvSpPr>
        <p:spPr>
          <a:xfrm>
            <a:off x="6075360" y="2228760"/>
            <a:ext cx="289080" cy="347760"/>
          </a:xfrm>
          <a:custGeom>
            <a:avLst/>
            <a:gdLst>
              <a:gd name="textAreaLeft" fmla="*/ 119160 w 289080"/>
              <a:gd name="textAreaRight" fmla="*/ 169920 w 289080"/>
              <a:gd name="textAreaTop" fmla="*/ 143280 h 347760"/>
              <a:gd name="textAreaBottom" fmla="*/ 204480 h 3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十字星 15"/>
          <p:cNvSpPr/>
          <p:nvPr/>
        </p:nvSpPr>
        <p:spPr>
          <a:xfrm>
            <a:off x="1111320" y="1090440"/>
            <a:ext cx="287280" cy="3477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3280 h 347760"/>
              <a:gd name="textAreaBottom" fmla="*/ 204480 h 3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十字星 16"/>
          <p:cNvSpPr/>
          <p:nvPr/>
        </p:nvSpPr>
        <p:spPr>
          <a:xfrm>
            <a:off x="2816280" y="3498840"/>
            <a:ext cx="287280" cy="3477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3280 h 347760"/>
              <a:gd name="textAreaBottom" fmla="*/ 204480 h 3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301680" y="6524640"/>
            <a:ext cx="8440560" cy="276480"/>
          </a:xfrm>
          <a:prstGeom prst="rect">
            <a:avLst/>
          </a:prstGeom>
          <a:solidFill>
            <a:srgbClr val="ffcf01"/>
          </a:solidFill>
          <a:ln w="25560">
            <a:solidFill>
              <a:srgbClr val="b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绕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问题开展人才培养和关键技术研发。扩大浙江大学在智能制造研究领域的影响力。全面完成聘期目标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Dell</cp:lastModifiedBy>
  <dcterms:modified xsi:type="dcterms:W3CDTF">2018-06-26T07:15:43Z</dcterms:modified>
  <cp:revision>106</cp:revision>
  <dc:subject/>
  <dc:title>述职报告</dc:title>
</cp:coreProperties>
</file>