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D360-8474-46F0-8187-1C41B2617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5CF6-847F-4948-8F4C-450DF124249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3E15-7BAB-4055-BEE8-01A4CE9D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92F7-1F9F-46F2-B455-65BE416B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8901-F935-440F-A5DD-C5F076E2B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3668-8FE5-4E36-880E-72CCA8E71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19C7-5E60-4815-90C4-4EFCF8783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E304-DFC4-43DA-86B4-9601BE28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4157-D4FD-4ED8-A0B0-F7FFF754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1A81-387F-47F9-BDC8-C2CCC388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89F6-627A-4EEA-9136-56CF544C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DE36-1A57-48A9-BB81-36514C2D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A44A-F65D-443D-8B0B-8A72F656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35CD-060F-4D16-98D8-1A68CA79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5D88-1311-455B-B1ED-3CCC0E5C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DC7F-EBD0-446C-B965-D60FE8FF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8B97-AB36-45E4-9B40-1225BE61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A01B-9A6F-4EC9-ADD4-D57E4828F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19AE-BCBC-4EDA-9EFD-D10C370BF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4026-0D52-4FC8-91FE-50E5A092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6BED-5347-41DC-B85C-F7274F0F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CCAF-C8FB-41DC-81C5-C853E86F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481D-6DAB-4EC5-9806-65809BAE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640C-0B75-4156-93E8-CE95C3D9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9958-D539-42A6-B777-B00DC5AE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F497-FDD0-480D-BA5D-4FF8BBF2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4280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25480" y="41292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6664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3672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52280" y="76212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8732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6836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534160" y="617184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B7A602E9-F13F-48D8-945B-98BE57125DEE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6141-ECC3-40F6-8C86-D67C00E42C90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标题 1"/>
          <p:cNvSpPr/>
          <p:nvPr/>
        </p:nvSpPr>
        <p:spPr>
          <a:xfrm>
            <a:off x="1531800" y="1268280"/>
            <a:ext cx="60804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01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控制学院高岗述职竞聘报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26920" y="1989000"/>
          <a:ext cx="8066160" cy="1189080"/>
        </p:xfrm>
        <a:graphic>
          <a:graphicData uri="http://schemas.openxmlformats.org/drawingml/2006/table">
            <a:tbl>
              <a:tblPr/>
              <a:tblGrid>
                <a:gridCol w="727200"/>
                <a:gridCol w="928800"/>
                <a:gridCol w="936720"/>
                <a:gridCol w="1244520"/>
                <a:gridCol w="771480"/>
                <a:gridCol w="1441440"/>
                <a:gridCol w="1224000"/>
                <a:gridCol w="792000"/>
              </a:tblGrid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姓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黄志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现岗位级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B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考核结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优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拟申报岗位级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B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779328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上一聘期内标志性成果与亮点工作（不超过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项）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50560" y="1413000"/>
            <a:ext cx="87850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本科主干课程“现代传感技术与过程检测系统”教学考评连续“优秀”；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提出了复杂流体参数检测非接触电阻抗测量新方法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建立了一种新型的电学过程层析成像技术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研究成果获得认可，国际权威在多篇综述论文中给予了大篇幅连续报道和高度评价，为学科评估和国家重点实验室评估提供了一个亮点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已受邀在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9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月英国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Bath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大学召开的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WCIPT9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做大会报告（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Keynote Lecture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灯片编号占位符 5"/>
          <p:cNvSpPr/>
          <p:nvPr/>
        </p:nvSpPr>
        <p:spPr>
          <a:xfrm>
            <a:off x="8534520" y="61722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15EE10C5-8453-404C-91F2-5C09BECA5AA3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67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下一聘期的预期成效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560" y="1267920"/>
            <a:ext cx="84214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负责完成本科主干课程“现代传感技术与过程检测系统” 教材《自动检测技术与装置》第三版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国家自然科学基金面上项目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项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发表学校或学科认定的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TOP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论文或二区以上论文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篇及以上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拟牵头申报两相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/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多相流检测方面的国家自然科学基金仪器专项或重点基金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深化拓展现有研究基础和领域，争取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3-5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年后也能为重点学科和国家重点实验室评估提供一个亮点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灯片编号占位符 5"/>
          <p:cNvSpPr/>
          <p:nvPr/>
        </p:nvSpPr>
        <p:spPr>
          <a:xfrm>
            <a:off x="8534520" y="61722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BE191BDD-8351-4095-B182-4BA2690CCAA6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4T01:58:13Z</dcterms:created>
  <dc:creator>gxzhang</dc:creator>
  <dc:description/>
  <dc:language>en-US</dc:language>
  <cp:lastModifiedBy>Windows 用户</cp:lastModifiedBy>
  <dcterms:modified xsi:type="dcterms:W3CDTF">2018-06-24T09:46:25Z</dcterms:modified>
  <cp:revision>104</cp:revision>
  <dc:subject/>
  <dc:title>述职报告</dc:title>
</cp:coreProperties>
</file>