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276-5D2D-4530-82FB-DD1A25FE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8A4-558B-4B60-A250-ADD85A75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A3E-222F-450E-8CD3-FC6CD8F1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03C-EA71-47E9-915A-DF57AE67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CF5C-FF60-4602-BCF0-4D36F940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0691-AF79-4A04-B017-1239A70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82B0-FEF1-4B16-B57B-73420C33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D925-8976-4D41-87D3-FD1A5C34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BE61-BC8B-4A81-9024-B33C700C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BA3F-5946-42FC-BF1E-7196D15D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E8C2-C4C7-4AB3-953E-BF8114B1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2EF-3B51-4324-919A-BA74F624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4060-C501-40BA-B3FB-25DA2F3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E501-8821-4A0D-B8E2-24D710AD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8D4A-97FC-42CA-86F8-1DCF104F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9022-234E-4329-A941-4AB269F0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524B-E1F7-4718-BDDE-EEEB47EB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C54-1789-4392-ADC7-B1A16EB7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FF6-A601-41CB-8C2F-9036F874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3F7-BF66-40A0-AC12-0449FDB4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B21-5DAA-4184-A054-7F6701A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6A4-77E7-4F6E-804A-30A991E1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054-1224-477C-A26A-CCDDFC04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978-5784-4AA7-A010-75E6DA8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D6EFA188-D6E0-49C5-8579-BF723482157F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c1c1c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2783-D9AA-427A-90FA-366D864557B9}" type="slidenum">
              <a:rPr b="1" lang="en-US" sz="1400" spc="-1" strike="noStrike">
                <a:solidFill>
                  <a:srgbClr val="1c1c1c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标题 1"/>
          <p:cNvSpPr/>
          <p:nvPr/>
        </p:nvSpPr>
        <p:spPr>
          <a:xfrm>
            <a:off x="1779480" y="96192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68280" y="1989000"/>
          <a:ext cx="7257960" cy="1189080"/>
        </p:xfrm>
        <a:graphic>
          <a:graphicData uri="http://schemas.openxmlformats.org/drawingml/2006/table">
            <a:tbl>
              <a:tblPr/>
              <a:tblGrid>
                <a:gridCol w="654120"/>
                <a:gridCol w="1074600"/>
                <a:gridCol w="1057320"/>
                <a:gridCol w="666720"/>
                <a:gridCol w="693720"/>
                <a:gridCol w="892080"/>
                <a:gridCol w="1486080"/>
                <a:gridCol w="73332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宋执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优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3A380416-3883-4CD4-A2ED-42123B19705E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230040" y="1366920"/>
            <a:ext cx="868212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领课题组在数据驱动故障诊断研究与应用方面取得重要进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表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CI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篇，其中一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区论文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他引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4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增国家自然科学基金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优秀青年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、面上项目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发了合成氨过程数据驱动监测软件，在中海油化学公司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南东方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应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邀到东北大学、西南交通大学等十多个高校做学术报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书育人工作卓有成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控制论》成为控制学院唯一的校级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通识核心课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讲本科通识课《控制论》、《自动化技术概论》，专业选修课《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SP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设计》和博士生学位课《预测控制》，教学评价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次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优秀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余良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导的博士生朱金林（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.1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和袁小锋（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.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博士学位论文分别推荐申报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自动化学会和中国仪器仪表学会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优秀博士学位论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完成了国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7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课题研究工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通过科技部验收，评价为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优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题总经费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-1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科研相关数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授权发明专利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，通信作者发表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CI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区以上论文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研经费到款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3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全额提成科研经费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8.1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0880" indent="-22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增国家自然科学基金面上项目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、国家重点研发计划子课题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BF54ED45-1E83-47CC-ACD0-FF91E6D5D6F9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17520" y="1401840"/>
            <a:ext cx="84837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国家级重点项目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国家自然科学基金重点项目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向故障诊断的流程工业大数据分析与分布式建模方法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’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同行评审，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答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国家重点研发专项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固废资源化”的指南建议已经公示，我们参与的项目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杂铜基多金属固废协同冶炼技术与成套装备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’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入指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撰写的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基于小样本数据的电弧风洞健康监测与智能管理技术’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国家自然科学基金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-</a:t>
            </a:r>
            <a:r>
              <a:rPr b="1" lang="zh-CN" sz="1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军委科技委联合基金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南初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与人才培养工作成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超额完成年均课堂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外教学时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承担的校级教学教改项目和学院教学教改项目，提升教学效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育全国一级学会优秀博士学位论文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研成果与奖励工作成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表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CI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区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区论文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以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期累计全额提成科研经费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以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授权发明专利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以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取省部级科技奖励（一等奖）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宁静致远</cp:lastModifiedBy>
  <dcterms:modified xsi:type="dcterms:W3CDTF">2018-06-25T02:36:52Z</dcterms:modified>
  <cp:revision>102</cp:revision>
  <dc:subject/>
  <dc:title>述职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