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4D26-A7DF-4179-B4ED-EE8629F4D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3299-D8FE-4688-A9C6-5F8265F8B86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B264-F217-48A5-AA8A-14B0B1A8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B724-7B78-4357-B214-836FA035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F2E6-6726-4ECF-BEDF-58E8BBBD2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8373-CEF0-4D1D-B5CB-E592681F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4D81-E317-490B-B77E-94D53D40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43F7-0E81-4B15-BBAC-B6E84E0E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EEC6-802E-437D-B2CA-764E66A4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C9B6-6039-4B54-B454-97328C4A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51DB-A94A-404D-86E1-3AD07C29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D4FF-F8DB-40AA-AA5E-9EFFD862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895F-F9C1-496A-9CD3-0819B6B6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3B35-8203-420C-8176-29BA0253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0C36-4DDF-433D-9A79-6871BF98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3381-C44D-431D-842E-6158073B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7844-8DB5-4C80-91E0-02AAE72F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C8E2-2F9F-4FA3-9926-C1D68DEE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D38C-7DDD-4AFB-BF40-A1FA91A6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2100-89E9-43F2-A764-748FBA97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558A-179F-41C3-BD9E-681FD711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D5E0-D44B-4EB4-8AF4-8696DCCF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5C60-14EF-4AB6-84F1-D9D18386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F9F3-71E4-4CDB-A731-1BC4F148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B88F-E58F-42C1-8B0C-036312AB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CE7C-EA7C-49D6-9E9C-5F3157B6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4280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25480" y="41292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6664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3672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52280" y="76212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8732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6836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534160" y="617184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8C46AD11-5715-48B9-8EA6-4CA767165DE0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244F-CEED-4F06-BA59-7587983C8575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标题 1"/>
          <p:cNvSpPr/>
          <p:nvPr/>
        </p:nvSpPr>
        <p:spPr>
          <a:xfrm>
            <a:off x="1531800" y="1268280"/>
            <a:ext cx="60804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01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控制学院高岗述职竞聘报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26920" y="1989000"/>
          <a:ext cx="8066160" cy="1189080"/>
        </p:xfrm>
        <a:graphic>
          <a:graphicData uri="http://schemas.openxmlformats.org/drawingml/2006/table">
            <a:tbl>
              <a:tblPr/>
              <a:tblGrid>
                <a:gridCol w="727200"/>
                <a:gridCol w="928800"/>
                <a:gridCol w="936720"/>
                <a:gridCol w="1244520"/>
                <a:gridCol w="771480"/>
                <a:gridCol w="1441440"/>
                <a:gridCol w="1224000"/>
                <a:gridCol w="792000"/>
              </a:tblGrid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姓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赵春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现岗位级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B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考核结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优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拟申报岗位级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高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灯片编号占位符 5"/>
          <p:cNvSpPr/>
          <p:nvPr/>
        </p:nvSpPr>
        <p:spPr>
          <a:xfrm>
            <a:off x="8534520" y="6172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DF263D8F-AA97-4798-A522-48153C05FF7C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304920"/>
            <a:ext cx="75708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上一聘期内标志性成果与亮点工作（不超过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项）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矩形 1"/>
          <p:cNvSpPr/>
          <p:nvPr/>
        </p:nvSpPr>
        <p:spPr>
          <a:xfrm>
            <a:off x="179280" y="1197000"/>
            <a:ext cx="883944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高级别项目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国家基金优青项目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国家基金重点项目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合作单位的承担人、总经费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50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的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%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全额提成科研经费之和 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多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水平论文：</a:t>
            </a: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( 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浙大第一单位，第一作者</a:t>
            </a: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/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唯一通讯发表</a:t>
            </a: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SCI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论文</a:t>
            </a: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篇 </a:t>
            </a: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ZJU100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、一区、二区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CI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论文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1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篇；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校、系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TOP 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CI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论文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5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篇；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ESI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高被引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论文 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篇（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IEEE TCST, 2017, 25(3), 842-854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；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7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份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高级别获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国际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SCI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期刊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neurocomputing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的副编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国际期刊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journal of control science and Engineering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专题主编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；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国内两家权威期刊编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《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控制与决策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控制工程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教学：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年总课时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537.6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时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gt;=</a:t>
            </a:r>
            <a:r>
              <a:rPr b="1" lang="en-US" sz="2000" spc="-1" strike="noStrike">
                <a:solidFill>
                  <a:srgbClr val="3333ff"/>
                </a:solidFill>
                <a:latin typeface="微软雅黑"/>
                <a:ea typeface="微软雅黑"/>
              </a:rPr>
              <a:t>384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时要求，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超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其他：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首届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自动化学会青年女科学家奖；大会主题报告 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4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次；授权发明专利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（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转化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；省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科技进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等奖（ 浙大第二、个人第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灯片编号占位符 5"/>
          <p:cNvSpPr/>
          <p:nvPr/>
        </p:nvSpPr>
        <p:spPr>
          <a:xfrm>
            <a:off x="8534520" y="6172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5CC172D9-A475-45C9-9237-5C965A30C005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下一聘期的预期成效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矩形 1"/>
          <p:cNvSpPr/>
          <p:nvPr/>
        </p:nvSpPr>
        <p:spPr>
          <a:xfrm>
            <a:off x="179280" y="1298520"/>
            <a:ext cx="88567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、科研项目：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增主持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以上国家级项目 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以上（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已获批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化融合联合基金重点项目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），到校总经费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300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元以上（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已获批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浙能横向项目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一项，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已申请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省科技厅项目，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计划申请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基金、科技部项目课题等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、科研成果：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表校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P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一区、二区等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CI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论文 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篇以上（已发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录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CI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论文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篇，含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AIChE J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AAA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论文）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篇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IEEE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刊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篇），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ESI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高被引论文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篇，国家出版基金资助专著 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（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预计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今年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出版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、国际学术影响力：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新增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要国际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CI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术期刊编委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（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已增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rol Engineering Practice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副编，争取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Journal of Process Control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副编），做大会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题报告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次以上（已做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次大会主题报告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已获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控青年科学家奖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4</a:t>
            </a:r>
            <a:r>
              <a:rPr b="1" lang="zh-CN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、标志性成果：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争取省部科技一等奖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、国家二等奖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，努力争取杰青、长江特聘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5</a:t>
            </a:r>
            <a:r>
              <a:rPr b="1" lang="zh-CN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、教学与公共服务：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继续承担主讲本科生和研究生课程，发表教学论文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篇，积极参加各项公共服务，力争总工作量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超过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40%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上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4T01:58:13Z</dcterms:created>
  <dc:creator>gxzhang</dc:creator>
  <dc:description/>
  <dc:language>en-US</dc:language>
  <cp:lastModifiedBy>zch</cp:lastModifiedBy>
  <dcterms:modified xsi:type="dcterms:W3CDTF">2018-06-24T14:16:53Z</dcterms:modified>
  <cp:revision>161</cp:revision>
  <dc:subject/>
  <dc:title>述职报告</dc:title>
</cp:coreProperties>
</file>