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83C5-3289-499C-8586-416A47783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A9EF-E633-4A0A-BADA-1EFE00B52E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BED-A45F-467B-B88B-45D15CF3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267-897D-49DB-8F95-6475F75D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562-A68D-46E4-8F12-CF57BBA6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6A2-C4B1-43EE-9D46-41AB0C64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46A9-239E-4AAB-A26A-5681AD53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5752-C4BB-43A9-B7F2-CFF8D306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55AA-622B-4421-9777-65AD1D5F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44B6-CDE0-41D8-BF28-229A02AD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13C2-2981-46BB-B7C7-70BD775C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AA5C-AD1F-4CC6-8C17-BFED0C22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E05E-85A4-4EC6-885B-A2F08162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F1C-030B-4F10-8617-6ABC1C48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DD67-D145-40DB-8204-F466F0C6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2F2F-F002-4A84-9ECC-7163522E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DB71-0EDD-4A28-9BB6-901377EE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07EB-2081-4A77-801F-D6861D5C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0F9D-E3EA-42A3-B22B-6D72C413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B8D-7815-49B6-9FD5-134B8785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04C-B9D4-4571-B6FD-AB7F3C0B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B63-D31A-47A7-B42A-68B0532E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7F6-6F58-4DE3-BCA4-3CADA0AF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7E1-9CFD-4D27-B8FE-CF2DF452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439-4025-4E59-86FF-5A711437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9D3-8C90-4610-9C93-A75851B8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053FC065-7E5A-44FC-82F7-AA0262DEAF6F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866B-DCF7-454C-84D9-CDBA5652755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189080"/>
        </p:xfrm>
        <a:graphic>
          <a:graphicData uri="http://schemas.openxmlformats.org/drawingml/2006/table">
            <a:tbl>
              <a:tblPr/>
              <a:tblGrid>
                <a:gridCol w="727200"/>
                <a:gridCol w="928800"/>
                <a:gridCol w="936720"/>
                <a:gridCol w="1244520"/>
                <a:gridCol w="771480"/>
                <a:gridCol w="1441440"/>
                <a:gridCol w="1224000"/>
                <a:gridCol w="79200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朱豫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6DA19EC1-6B8A-4CD3-A338-2CA0FB9CD466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（不超过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项）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507960" y="1601640"/>
            <a:ext cx="804852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标志性科研成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）在系统辨识领域，开创性地发展了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x-Jenkins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预测误差）模型参数估计全局收敛的算法，解决了一个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的难题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）在系统辨识领域，发现了闭环无激励条件下，快采样模型可辨识性的物理机理和条件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）在系统辨识领域，将本人提出的渐近法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M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），推广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V (errors-in-variables)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系统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项目：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两个基金面上项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万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万，两个横向项目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万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8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万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重点研发计划课题负责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87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万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17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项目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18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批准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教学：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系统辨识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，研究生课，英语。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学时不足，暗点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工业应用：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成功将闭环辨识、预测控制应用于大型发电机组，取得很大的经济和社会效益。例如，在内蒙布连（伊旗）电厂两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60MW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机组实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C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在线控制，第一年效益超过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50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万人民币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EA6C7D6F-898A-479E-AF0B-4E8BB0208EF3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826920" y="1413000"/>
            <a:ext cx="7274160" cy="31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保持原来的工作状态的基础上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增加教学工作量，已加开一门本科生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申请大项目：已获批重点研发计划课题，主持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87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万元；已申请一项国家重点基金，负责人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万元（指南建议人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发表更多高水平学术论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在学术界和工业界提高控制学院的口碑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administrator</cp:lastModifiedBy>
  <dcterms:modified xsi:type="dcterms:W3CDTF">2018-06-27T01:17:36Z</dcterms:modified>
  <cp:revision>97</cp:revision>
  <dc:subject/>
  <dc:title>述职报告</dc:title>
</cp:coreProperties>
</file>