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BC9D-9602-45FB-A6BC-C63869276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570E-312B-430F-A572-23B09448255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3E5A-1F29-45CE-A7BD-0B64D62F5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AEB3-B503-49B4-ABFB-ED01CEE6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55CA-39A8-4A66-99AB-3812BB1EE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DEE0-C07E-4EC0-87FF-C4E89C43B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CD29-D0FB-4DCB-8D17-D72C75292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7E76-E8AF-45A7-87CA-729A3667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909E-2580-426B-A13C-EA5DE1FD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76EF-C163-4DA6-9D0C-1E770ED0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E38A-6628-4F0A-85B4-D5A757FE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8649-4253-4F37-A360-532D6301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B7FD-4A5E-4E3D-AB0C-04D560C5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793A-B105-4E05-88FC-64FC9780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DD25-87B0-4E22-BB60-87F78E43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6699-A294-4F73-8FA9-FB453AD1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39DF5-F9D9-43F6-8784-BFE4BD1E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BCFD-3DB4-429E-8922-1ECF10CDB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127C-2C9C-4BF9-B92D-291AE334E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A994-1A80-43A0-967C-1DB7A945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4626-9FAD-4FA7-AD32-355DCF08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5FE3-10F4-4894-A7D0-758D1706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27D1-3E5B-4E40-A19A-5DFA5B2D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DB67-FB89-44D7-9D71-D3ED6E1F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15F9-DB96-4C58-9A71-8042B4C4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AFEE-3100-432A-917F-AF6059DB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4280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25480" y="41292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6664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3672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52280" y="762120"/>
            <a:ext cx="5605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8732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68360" y="10954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534160" y="617184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fld id="{B2AD7661-07A4-4EE0-8931-A339162C1006}" type="slidenum"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0E1B-98ED-4B90-BE47-7A627F5CBF60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标题 1"/>
          <p:cNvSpPr/>
          <p:nvPr/>
        </p:nvSpPr>
        <p:spPr>
          <a:xfrm>
            <a:off x="1531800" y="1268280"/>
            <a:ext cx="60804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018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控制学院高岗述职竞聘报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826920" y="1989000"/>
          <a:ext cx="8066160" cy="1189080"/>
        </p:xfrm>
        <a:graphic>
          <a:graphicData uri="http://schemas.openxmlformats.org/drawingml/2006/table">
            <a:tbl>
              <a:tblPr/>
              <a:tblGrid>
                <a:gridCol w="727200"/>
                <a:gridCol w="928800"/>
                <a:gridCol w="936720"/>
                <a:gridCol w="1244520"/>
                <a:gridCol w="771480"/>
                <a:gridCol w="1441440"/>
                <a:gridCol w="1224000"/>
                <a:gridCol w="792000"/>
              </a:tblGrid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姓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刘兴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现岗位级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B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考核结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良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拟申报岗位级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B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灯片编号占位符 5"/>
          <p:cNvSpPr/>
          <p:nvPr/>
        </p:nvSpPr>
        <p:spPr>
          <a:xfrm>
            <a:off x="8534520" y="61722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fld id="{CC3E11DC-E395-43EA-9EF1-E09E2BDB5419}" type="slidenum"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7920" y="74160"/>
            <a:ext cx="7570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上一聘期内标志性成果与亮点工作（不超过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项）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文本框 1"/>
          <p:cNvSpPr/>
          <p:nvPr/>
        </p:nvSpPr>
        <p:spPr>
          <a:xfrm>
            <a:off x="395280" y="1557360"/>
            <a:ext cx="835344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SzPct val="60000"/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学科评估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重点实验室验收贡献：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SCI39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发明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57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项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SzPct val="60000"/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国家科技进步一等奖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项：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014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年获得，属于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014-17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年聘期，且上期聘岗未用过该成果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SzPct val="60000"/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ESI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高被引论文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篇，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另有第二单位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ESI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高被引论文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篇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ESI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热点论文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篇；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国际合作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SCI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论文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篇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SzPct val="60000"/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SCI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他引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510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次；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Top7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篇含二区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篇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另有第二单位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篇；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GF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报告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篇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;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项目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项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国家级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项、全额提取到款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117.8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万元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另有博士后国家级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项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3.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万元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SzPct val="60000"/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年均：课堂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96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学时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超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50%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；课外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128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学时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超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100%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灯片编号占位符 5"/>
          <p:cNvSpPr/>
          <p:nvPr/>
        </p:nvSpPr>
        <p:spPr>
          <a:xfrm>
            <a:off x="8534520" y="61722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fld id="{F29D7305-DA80-45F9-83CE-F9F6E2632D71}" type="slidenum"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下一聘期的预期成效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文本框 1"/>
          <p:cNvSpPr/>
          <p:nvPr/>
        </p:nvSpPr>
        <p:spPr>
          <a:xfrm>
            <a:off x="826920" y="1844640"/>
            <a:ext cx="7848720" cy="16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spcBef>
                <a:spcPts val="1800"/>
              </a:spcBef>
              <a:buClr>
                <a:srgbClr val="333399"/>
              </a:buClr>
              <a:buSzPct val="60000"/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保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B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，达到学院规定目标、力争超出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0%-40%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1800"/>
              </a:spcBef>
              <a:buClr>
                <a:srgbClr val="333399"/>
              </a:buClr>
              <a:buSzPct val="60000"/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申报教育部一等奖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项、国家二等奖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项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4T01:58:13Z</dcterms:created>
  <dc:creator>gxzhang</dc:creator>
  <dc:description/>
  <dc:language>en-US</dc:language>
  <cp:lastModifiedBy>Liu</cp:lastModifiedBy>
  <dcterms:modified xsi:type="dcterms:W3CDTF">2018-06-26T05:21:58Z</dcterms:modified>
  <cp:revision>144</cp:revision>
  <dc:subject/>
  <dc:title>述职报告</dc:title>
</cp:coreProperties>
</file>