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EA7E-EAC6-4E49-BC51-8EA417B97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1EC2-AB32-41FA-B683-F0ABF505D9B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0F31-6B95-4F1F-A4BD-F3F1E9FB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7C8D-7070-47EB-8208-70791018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519A-B16D-4FAD-B127-905BD7F18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B396-F0E6-4089-AAFD-ED05EC2CD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A03C-A3ED-483B-9C51-294FBC89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C127-BB94-4B3A-AB3B-4D8395DE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A1D2-73D9-4C99-81AF-C3125D58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5951-C8B0-4C47-9D72-941F87BC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2C54-4797-4AED-B1F8-CACAA609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55FA-5B8E-4F31-930F-040901EE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A10B-6CE6-45AA-925B-1E33930B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0EA2-E784-4237-B68E-8D96154E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D97B-C0F7-4497-9733-CD42A0A9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0C60-0B7D-4D91-B419-0D03C6F8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6E56-1531-4A17-BA57-5ECA9758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DA74-7AB7-4C50-9D31-A648EEE5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889A-78D4-40F8-A6C1-84D3ACB6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FDE8-F42F-423F-A1B6-287C1EFD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A507-5C17-42A2-A2DA-E4A91713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1892-227A-4BB2-98FE-A863BD98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9DA5-2013-479B-8966-48BFD1E5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B71F-C9B7-434C-8418-D660C745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1BA7-D65B-4CD8-BA40-14CB835E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1992-E53B-4217-9C27-908F21B6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4280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25480" y="41292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6664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3672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52280" y="76212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8732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6836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534160" y="617184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AA317256-1237-4428-9DCA-C3AFDAB45E5F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193E-334D-490B-A6D4-BB5EAA5B5CF4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标题 1"/>
          <p:cNvSpPr/>
          <p:nvPr/>
        </p:nvSpPr>
        <p:spPr>
          <a:xfrm>
            <a:off x="1531800" y="1268280"/>
            <a:ext cx="60804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01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控制学院高岗述职竞聘报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26920" y="1989000"/>
          <a:ext cx="8066160" cy="1311480"/>
        </p:xfrm>
        <a:graphic>
          <a:graphicData uri="http://schemas.openxmlformats.org/drawingml/2006/table">
            <a:tbl>
              <a:tblPr/>
              <a:tblGrid>
                <a:gridCol w="727200"/>
                <a:gridCol w="1001880"/>
                <a:gridCol w="1008000"/>
                <a:gridCol w="1100160"/>
                <a:gridCol w="771480"/>
                <a:gridCol w="1441440"/>
                <a:gridCol w="1224000"/>
                <a:gridCol w="792000"/>
              </a:tblGrid>
              <a:tr h="1311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333399"/>
                          </a:solidFill>
                          <a:uFillTx/>
                          <a:latin typeface="微软雅黑"/>
                          <a:ea typeface="微软雅黑"/>
                        </a:rPr>
                        <a:t>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张光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333399"/>
                          </a:solidFill>
                          <a:uFillTx/>
                          <a:latin typeface="微软雅黑"/>
                          <a:ea typeface="微软雅黑"/>
                        </a:rPr>
                        <a:t>现岗位级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B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333399"/>
                          </a:solidFill>
                          <a:uFillTx/>
                          <a:latin typeface="微软雅黑"/>
                          <a:ea typeface="微软雅黑"/>
                        </a:rPr>
                        <a:t>考核结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优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333399"/>
                          </a:solidFill>
                          <a:uFillTx/>
                          <a:latin typeface="微软雅黑"/>
                          <a:ea typeface="微软雅黑"/>
                        </a:rPr>
                        <a:t>拟申报岗位级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B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灯片编号占位符 5"/>
          <p:cNvSpPr/>
          <p:nvPr/>
        </p:nvSpPr>
        <p:spPr>
          <a:xfrm>
            <a:off x="8534520" y="6172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0DD9AD96-2A35-41A9-83CC-C86F6621B313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304920"/>
            <a:ext cx="75708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上一聘期内标志性成果与亮点工作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内容占位符 2"/>
          <p:cNvSpPr/>
          <p:nvPr/>
        </p:nvSpPr>
        <p:spPr>
          <a:xfrm>
            <a:off x="142920" y="1341360"/>
            <a:ext cx="889308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ahoma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3333ff"/>
                </a:solidFill>
                <a:latin typeface="Tahoma"/>
                <a:ea typeface="微软雅黑"/>
              </a:rPr>
              <a:t>担任院长期间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微软雅黑"/>
              </a:rPr>
              <a:t>控制学院教学质量整体位居学校前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微软雅黑"/>
              </a:rPr>
              <a:t>浙江大学控制学科顺利进入国家一流学科建设目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微软雅黑"/>
              </a:rPr>
              <a:t>在第四轮学科评估中，浙江大学控制学科被评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微软雅黑"/>
              </a:rPr>
              <a:t>A+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微软雅黑"/>
              </a:rPr>
              <a:t>学科（第三轮学科评估为并列第四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灯片编号占位符 5"/>
          <p:cNvSpPr/>
          <p:nvPr/>
        </p:nvSpPr>
        <p:spPr>
          <a:xfrm>
            <a:off x="8534520" y="6172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711AD3D6-277C-425C-9316-C746F4E392E9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下一聘期的预期成效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内容占位符 2"/>
          <p:cNvSpPr/>
          <p:nvPr/>
        </p:nvSpPr>
        <p:spPr>
          <a:xfrm>
            <a:off x="34920" y="1268280"/>
            <a:ext cx="900108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作为本科生院院长：全面提升全校本科教育质量的内涵式发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4T01:58:13Z</dcterms:created>
  <dc:creator>gxzhang</dc:creator>
  <dc:description/>
  <dc:language>en-US</dc:language>
  <cp:lastModifiedBy>administrator</cp:lastModifiedBy>
  <dcterms:modified xsi:type="dcterms:W3CDTF">2018-06-26T02:17:10Z</dcterms:modified>
  <cp:revision>175</cp:revision>
  <dc:subject/>
  <dc:title>述职报告</dc:title>
</cp:coreProperties>
</file>