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C517-592C-48AE-A2C4-8DCFE82C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468E-6AD6-4ED3-B160-63FDFA9E3B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8EA-51C4-437F-87BE-9E370AD3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E27-196F-48B8-A887-0EF359E1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C33-17A7-43BF-81DA-5AB4565F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C3A-DD29-4933-9D0C-4BD14E2A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EAE0-A71E-49EF-B6DF-70313C4E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8F3-8939-4A6C-BB35-A3130E81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814F-46C1-4231-A8A8-24CCEF3E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539C-0956-4F77-8EAA-7D885B36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C05B-58B2-4E83-A71E-D7BDB80B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1DCA-D211-4975-B68E-C25A0CBB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ACBA-8534-4A4C-A3AF-B49B029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59C-4780-48B2-93D4-5008EA54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F88A-3711-4379-B222-23023EDC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19CE-85D3-4A49-B0B6-C91582BC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0EB2-D903-46A8-A5E4-5CAFB33B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E3A4-E1D3-4805-896E-87E073D5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7668-FCAC-4C90-AF3C-015D53FF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E9F-BCBC-4490-A29B-F66E3620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590-126C-4954-8819-1BCCD177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033-D50A-4ED7-8FEA-2A8DBD65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F33-9932-4DCC-9D2C-6503025D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AF5-2780-4281-BF1F-56B13B53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D60-C712-4E9E-9AD6-560BDF3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A66-01D3-4856-B3F0-90DA8BEC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8299A554-9D68-42BA-BAC7-A4DEE366C20D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D8F8-2F9E-435E-BCE8-6BCB32552A8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4720" cy="1189080"/>
        </p:xfrm>
        <a:graphic>
          <a:graphicData uri="http://schemas.openxmlformats.org/drawingml/2006/table">
            <a:tbl>
              <a:tblPr/>
              <a:tblGrid>
                <a:gridCol w="725760"/>
                <a:gridCol w="930240"/>
                <a:gridCol w="936720"/>
                <a:gridCol w="1244520"/>
                <a:gridCol w="771480"/>
                <a:gridCol w="1440000"/>
                <a:gridCol w="1223640"/>
                <a:gridCol w="79236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牟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优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A239769F-28C6-4230-81DD-66766B7BD783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上一聘期内标志性成果与亮点工作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28760" y="1143000"/>
            <a:ext cx="864396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教学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本科生教学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132.79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学时；研究生教学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24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学时；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   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共计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156.79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学时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评价优秀课程一门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公共服务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班主任、新生之友、德育导师（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校级优秀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）等共计 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235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学时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科研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主持完成国家自然科学基金项目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一项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，国家重大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   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科学仪器设备开发专项子任务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一项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其他经费项目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两项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   </a:t>
            </a: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共计到款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302.77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万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714240" y="4502160"/>
            <a:ext cx="6897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发表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SCI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论文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篇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Chemical Communication (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ZJU100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Analytical Chemistry 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校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TOP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Lab on a Chip 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校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TOP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授权发明专利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项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（其中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项专利转化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200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万元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214800" y="6334200"/>
            <a:ext cx="21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考核结果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优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167D3B86-5EAD-43EC-AA32-E0E8EC9BC454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42920" y="1000080"/>
            <a:ext cx="857232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教学：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高质量完成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《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现代科学仪器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》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《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微流体控制与检测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》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《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生物传感器技术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》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等课程教学，年均加权课堂教学时数≥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64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学时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科研：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努力争取国家重点研发计划项目等高级别项目，多途径争取科研项目，两年内新增主持总经费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50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万以上国家级项目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项或到校总经费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150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万元以上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两年发表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SCI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论文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篇以上，争取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TOP 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论文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篇以上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公共服务：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积极参加公益工作，继续德育导师、新生之友、教学督导、答辩、面试等方面工作，按照学校要求建设好中英文个人主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国际合作交流与学术影响力：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发表国际合作论文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篇，在学院学科交叉等方面贡献力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图片 4" descr="微信图片_20180624152911.jpg"/>
          <p:cNvPicPr/>
          <p:nvPr/>
        </p:nvPicPr>
        <p:blipFill>
          <a:blip r:embed="rId1"/>
          <a:stretch/>
        </p:blipFill>
        <p:spPr>
          <a:xfrm>
            <a:off x="428760" y="2357280"/>
            <a:ext cx="3143160" cy="15717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3714840" y="2000160"/>
            <a:ext cx="492912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进一步开展微流控系统研究，将人工智能结合到数字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PCR</a:t>
            </a:r>
            <a:r>
              <a:rPr b="0" lang="zh-CN" sz="2200" spc="-1" strike="noStrike">
                <a:solidFill>
                  <a:srgbClr val="000099"/>
                </a:solidFill>
                <a:latin typeface="Times New Roman"/>
                <a:ea typeface="黑体"/>
              </a:rPr>
              <a:t>仪器图像处理工作，发挥学科交叉的专长，开展生命科学仪器研究，解决生命科学领域高灵敏精准检测的难题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lenovo</cp:lastModifiedBy>
  <dcterms:modified xsi:type="dcterms:W3CDTF">2018-06-24T10:49:29Z</dcterms:modified>
  <cp:revision>115</cp:revision>
  <dc:subject/>
  <dc:title>述职报告</dc:title>
</cp:coreProperties>
</file>