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3"/>
          </p:nvPr>
        </p:nvSpPr>
        <p:spPr>
          <a:xfrm>
            <a:off x="388620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9EC1C-5479-480E-AAA9-3A656C207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92D1C-AED2-457E-ACB7-671AF4741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E4A05-7E4C-4360-926D-2DBCDC3BBB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8AED3-AE9B-42B3-9C64-AC3602299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150F4-972C-4A46-9D9E-670E25FDD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B3070-F616-4429-B7C6-87EF986A3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90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240" y="416520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135A4-7973-48D8-A8A3-06803D0EB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90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24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348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45AAC-9082-4DAE-AD3C-E728B501D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90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8800" y="201744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5720" y="201744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240" y="416520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8800" y="416520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5720" y="416520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A9A6F-52D4-46D8-9E08-CD6335D1C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CA903-9E5C-4426-97FA-0F1402ACB5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90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E7743-89D8-4C12-A535-2793F55704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90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C437C-3D0D-4C88-891E-6B19BE9D96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90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629E1-D2A6-4FA6-BCBA-E9DD7FE787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90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B7A1F-67E2-4F31-9588-B99FC048E6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228600"/>
            <a:ext cx="77900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6036F-24B3-4644-8815-CF73BAF6C6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90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24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B3605-867F-4957-97C6-7F2036A500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90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C645D-A66E-476E-A84A-FBAA252A4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90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348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771BD-7EB2-4625-A444-7B3A97C2AE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90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240" y="416520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7A385-7CD6-4E3C-AA30-71B50288A6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90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240" y="416520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3CB8B-2A41-4511-87DC-33471FDE2D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90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24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348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46AC9-78C2-4591-9AE0-CA454C3D0B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90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0" y="201744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5720" y="201744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240" y="416520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08800" y="416520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5720" y="416520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EAE53-9F33-44D8-808E-0D8592750B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90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D361-04C4-4E97-AA7D-670D2BC40B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90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5921-469A-45B6-8F60-49F57EF82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90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55FF1-76C0-453F-98E6-BC828BF20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228600"/>
            <a:ext cx="77900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1A164-6F24-478F-A56F-914D0CB96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90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24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B7900-C9B2-4153-AE12-551DCAE75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90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348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22159-99FD-478E-B477-8BACC4EAB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90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240" y="416520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9FC85-B770-48BA-AD7B-145CEA174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428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82548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5666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93672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52280" y="762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7873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6836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90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Text Box 1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534520" y="6171840"/>
            <a:ext cx="60624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9D27C8C3-1A54-4CE8-978E-561F506DAD32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2438280"/>
            <a:ext cx="9005760" cy="1049400"/>
            <a:chOff x="0" y="2438280"/>
            <a:chExt cx="9005760" cy="1049400"/>
          </a:xfrm>
        </p:grpSpPr>
        <p:grpSp>
          <p:nvGrpSpPr>
            <p:cNvPr id="49" name="Group 2"/>
            <p:cNvGrpSpPr/>
            <p:nvPr/>
          </p:nvGrpSpPr>
          <p:grpSpPr>
            <a:xfrm>
              <a:off x="293760" y="2546280"/>
              <a:ext cx="709560" cy="471600"/>
              <a:chOff x="293760" y="2546280"/>
              <a:chExt cx="709560" cy="471600"/>
            </a:xfrm>
          </p:grpSpPr>
          <p:sp>
            <p:nvSpPr>
              <p:cNvPr id="50" name="Rectangle 3"/>
              <p:cNvSpPr/>
              <p:nvPr/>
            </p:nvSpPr>
            <p:spPr>
              <a:xfrm>
                <a:off x="293760" y="2546280"/>
                <a:ext cx="434880" cy="471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4"/>
              <p:cNvSpPr/>
              <p:nvPr/>
            </p:nvSpPr>
            <p:spPr>
              <a:xfrm>
                <a:off x="677880" y="2546280"/>
                <a:ext cx="32544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5"/>
            <p:cNvGrpSpPr/>
            <p:nvPr/>
          </p:nvGrpSpPr>
          <p:grpSpPr>
            <a:xfrm>
              <a:off x="417600" y="2968560"/>
              <a:ext cx="736560" cy="471600"/>
              <a:chOff x="417600" y="2968560"/>
              <a:chExt cx="736560" cy="471600"/>
            </a:xfrm>
          </p:grpSpPr>
          <p:sp>
            <p:nvSpPr>
              <p:cNvPr id="53" name="Rectangle 6"/>
              <p:cNvSpPr/>
              <p:nvPr/>
            </p:nvSpPr>
            <p:spPr>
              <a:xfrm>
                <a:off x="417600" y="2968560"/>
                <a:ext cx="419040" cy="47160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7"/>
              <p:cNvSpPr/>
              <p:nvPr/>
            </p:nvSpPr>
            <p:spPr>
              <a:xfrm>
                <a:off x="787320" y="2968560"/>
                <a:ext cx="36684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5" name="Rectangle 8"/>
            <p:cNvSpPr/>
            <p:nvPr/>
          </p:nvSpPr>
          <p:spPr>
            <a:xfrm>
              <a:off x="0" y="2895480"/>
              <a:ext cx="557280" cy="4194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635040" y="2438280"/>
              <a:ext cx="28440" cy="10494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 flipV="1">
              <a:off x="316080" y="3259800"/>
              <a:ext cx="8689680" cy="52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90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62AA5-3A92-4036-A748-F6A9709CD38A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1531800" y="1268280"/>
            <a:ext cx="60804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01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控制学院高岗述职竞聘报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26920" y="1989000"/>
          <a:ext cx="8067960" cy="1211400"/>
        </p:xfrm>
        <a:graphic>
          <a:graphicData uri="http://schemas.openxmlformats.org/drawingml/2006/table">
            <a:tbl>
              <a:tblPr/>
              <a:tblGrid>
                <a:gridCol w="727200"/>
                <a:gridCol w="928800"/>
                <a:gridCol w="936720"/>
                <a:gridCol w="1244520"/>
                <a:gridCol w="772920"/>
                <a:gridCol w="1441440"/>
                <a:gridCol w="1224000"/>
                <a:gridCol w="792360"/>
              </a:tblGrid>
              <a:tr h="121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陈剑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现岗位级别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B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考核结果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良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拟申报岗位级别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B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515880" y="1300320"/>
            <a:ext cx="8170920" cy="2752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506520" y="4197240"/>
            <a:ext cx="8170920" cy="21844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"/>
          <p:cNvSpPr/>
          <p:nvPr/>
        </p:nvSpPr>
        <p:spPr>
          <a:xfrm>
            <a:off x="8740800" y="6453360"/>
            <a:ext cx="4032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613F8E3E-CF42-49E5-9F2E-75D6F37DE8A9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116000" y="304920"/>
            <a:ext cx="757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上一聘期内标志性成果与亮点工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506520" y="1378080"/>
            <a:ext cx="88056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研方面 ——围绕新能源智能车展开研究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611280" y="1812960"/>
            <a:ext cx="7958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9840" indent="-339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微软雅黑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自然科学基金</a:t>
            </a:r>
            <a:r>
              <a:rPr b="0" lang="en-US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重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车用燃料电池系统与车辆动力学系统一体化建模与控制技术的研究”，科研经费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65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/01-2019/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“</a:t>
            </a:r>
            <a:r>
              <a:rPr b="0" lang="en-US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青年千人计划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，科研经费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/01-2016/1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微软雅黑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新能源与智能车领域发表</a:t>
            </a:r>
            <a:r>
              <a:rPr b="0" lang="en-US" sz="1600" spc="-1" strike="noStrike">
                <a:solidFill>
                  <a:srgbClr val="ed1c24"/>
                </a:solidFill>
                <a:latin typeface="微软雅黑"/>
                <a:ea typeface="微软雅黑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篇第一或通讯作者的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CI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期刊论文（其中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IEEE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刊论文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ZJU100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论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篇，二区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CI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期刊论文</a:t>
            </a:r>
            <a:r>
              <a:rPr b="0" lang="en-US" sz="1600" spc="-1" strike="noStrike">
                <a:solidFill>
                  <a:srgbClr val="ed1c24"/>
                </a:solidFill>
                <a:latin typeface="微软雅黑"/>
                <a:ea typeface="微软雅黑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篇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授权发明专利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微软雅黑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6 ACC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6 CDC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7 IROS  chair/co-chair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6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控制会议特邀报告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6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中国自动化学会青年学术年会特邀报告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、召开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7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际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智能系统与控制研讨会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506520" y="4257720"/>
            <a:ext cx="6729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育教学及公共事务方面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611280" y="4689360"/>
            <a:ext cx="795816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9840" indent="-339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微软雅黑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担任重点实验室秘书长，负责重点实验室的开放课题和自主课题的管理，负责重点实验室每年的学术年会和年报的相关工作，负责重点实验室对外交流及参观事务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微软雅黑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设面向研究生的矩阵分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程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600" spc="-1" strike="noStrike">
                <a:solidFill>
                  <a:srgbClr val="ed1c24"/>
                </a:solidFill>
                <a:latin typeface="微软雅黑"/>
                <a:ea typeface="微软雅黑"/>
              </a:rPr>
              <a:t>全校全英文共享课程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2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时。开设面向本科生的数学建模与仿真课程，改为双语教学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+16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时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并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导学生参加美国大学生数学建模竞赛，获</a:t>
            </a:r>
            <a:r>
              <a:rPr b="0" lang="en-US" sz="1600" spc="-1" strike="noStrike">
                <a:solidFill>
                  <a:srgbClr val="ed1c24"/>
                </a:solidFill>
                <a:latin typeface="微软雅黑"/>
                <a:ea typeface="微软雅黑"/>
              </a:rPr>
              <a:t>一等奖</a:t>
            </a:r>
            <a:r>
              <a:rPr b="0" lang="en-US" sz="1600" spc="-1" strike="noStrike">
                <a:solidFill>
                  <a:srgbClr val="ed1c24"/>
                </a:solidFill>
                <a:latin typeface="微软雅黑"/>
                <a:ea typeface="微软雅黑"/>
              </a:rPr>
              <a:t>2</a:t>
            </a:r>
            <a:r>
              <a:rPr b="0" lang="en-US" sz="1600" spc="-1" strike="noStrike">
                <a:solidFill>
                  <a:srgbClr val="ed1c24"/>
                </a:solidFill>
                <a:latin typeface="微软雅黑"/>
                <a:ea typeface="微软雅黑"/>
              </a:rPr>
              <a:t>项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ed1c24"/>
                </a:solidFill>
                <a:latin typeface="微软雅黑"/>
                <a:ea typeface="微软雅黑"/>
              </a:rPr>
              <a:t>二等奖</a:t>
            </a:r>
            <a:r>
              <a:rPr b="0" lang="en-US" sz="1600" spc="-1" strike="noStrike">
                <a:solidFill>
                  <a:srgbClr val="ed1c24"/>
                </a:solidFill>
                <a:latin typeface="微软雅黑"/>
                <a:ea typeface="微软雅黑"/>
              </a:rPr>
              <a:t>7</a:t>
            </a:r>
            <a:r>
              <a:rPr b="0" lang="en-US" sz="1600" spc="-1" strike="noStrike">
                <a:solidFill>
                  <a:srgbClr val="ed1c24"/>
                </a:solidFill>
                <a:latin typeface="微软雅黑"/>
                <a:ea typeface="微软雅黑"/>
              </a:rPr>
              <a:t>项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8748720" y="6308640"/>
            <a:ext cx="3952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5EA3A3E3-77F4-4A24-B5F2-C53C5877D9F5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137160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下一聘期的预期成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706320" y="3773520"/>
            <a:ext cx="7840800" cy="2541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706320" y="1395360"/>
            <a:ext cx="7840800" cy="22622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679320" y="1522440"/>
            <a:ext cx="8805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研方面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669960" y="3827520"/>
            <a:ext cx="4889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育教学及公共事务方面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809640" y="1989000"/>
            <a:ext cx="743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9840" indent="-339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微软雅黑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一步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围绕新能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智能车开展学术研究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微软雅黑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筹划申请“浙江省重点研发计划”、“浙江省高校高水平创新团队”等项目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微软雅黑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挥学科特长，推动产学研结合，争取校企合作，争取</a:t>
            </a:r>
            <a:r>
              <a:rPr b="0" lang="zh-CN" sz="1600" spc="-1" strike="noStrike">
                <a:solidFill>
                  <a:srgbClr val="ed1c24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横向课题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微软雅黑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争取发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CI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区论文</a:t>
            </a:r>
            <a:r>
              <a:rPr b="0" lang="en-US" sz="1600" spc="-1" strike="noStrike">
                <a:solidFill>
                  <a:srgbClr val="ed1c24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篇，其中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ZJU10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论文</a:t>
            </a:r>
            <a:r>
              <a:rPr b="0" lang="en-US" sz="1600" spc="-1" strike="noStrike">
                <a:solidFill>
                  <a:srgbClr val="ed1c24"/>
                </a:solidFill>
                <a:latin typeface="微软雅黑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篇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809640" y="4292640"/>
            <a:ext cx="721836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9840" indent="-339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微软雅黑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积极参与学院相关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务性工作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学学术活动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加强国际交流合作，为推进学科国际化做贡献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25000"/>
              </a:lnSpc>
              <a:spcAft>
                <a:spcPts val="601"/>
              </a:spcAft>
              <a:buClr>
                <a:srgbClr val="000000"/>
              </a:buClr>
              <a:buFont typeface="微软雅黑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断完善面向研究生的矩阵分析课程（全校全英文共享课程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以及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面向本科生的数学建模与仿真课程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25000"/>
              </a:lnSpc>
              <a:spcAft>
                <a:spcPts val="601"/>
              </a:spcAft>
              <a:buClr>
                <a:srgbClr val="000000"/>
              </a:buClr>
              <a:buFont typeface="微软雅黑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协助重点实验室主任，加强重点实验室规范管理，促进重点实验室国际化和支撑学科建设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25000"/>
              </a:lnSpc>
              <a:spcAft>
                <a:spcPts val="601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01:58:13Z</dcterms:created>
  <dc:creator>gxzhang</dc:creator>
  <dc:description/>
  <dc:language>en-US</dc:language>
  <cp:lastModifiedBy>Huang</cp:lastModifiedBy>
  <dcterms:modified xsi:type="dcterms:W3CDTF">2018-06-26T02:01:27Z</dcterms:modified>
  <cp:revision>108</cp:revision>
  <dc:subject/>
  <dc:title>述职报告</dc:title>
</cp:coreProperties>
</file>