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281C-1F04-49C4-B00C-284A6393A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219A-3AE7-4E8F-A394-85D0C03746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342B-94A8-4420-A04E-AA952AE5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A5A0-842E-47B2-9ADA-98BF9ECB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708C-CBCB-4AE6-902E-4E2333F6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8B71-219A-482E-9553-44E1C734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2A20-9A80-473F-B9BB-11699D6E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5EB5-BECA-4261-966B-AEE29BAF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6414-CD89-4B58-B5FD-F8A45115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4D74-3D7A-497A-8D92-CC5EED69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787E-9B48-445E-8AE9-A878A570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DD44-33E7-4684-A625-A1E021E0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1966-4000-4B2F-9853-72FDC869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06FC-C161-4A13-B2A1-8820D203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AFA0-41E2-4669-AF2E-C1DED9B8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BAF5-9EB2-48F2-8C86-E314DCC0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D489-F19C-4F11-96F9-AEE21729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2361-B2CC-4D63-909C-7144FC73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F851-2552-4C22-B52E-2FAF0A5B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43FA-DA97-4182-8F1C-96ABF7DD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471B-261E-47A4-8FE3-E286BA12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2FEA-2A50-4632-86AF-98B25788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6934-FC04-44F1-A110-E4D30067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C6ED-9C07-4194-9C64-B9A42D8F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F10C-2FFA-4BFD-B168-CEF160A2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A958-7C3F-4FEE-B19A-60F29827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428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2548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666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3672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52280" y="76212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873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6836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534160" y="617184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C22D4625-DB3B-46FC-B7ED-92BD532C790B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5B72-DF67-4C1C-B9C9-2E377789F99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标题 1"/>
          <p:cNvSpPr/>
          <p:nvPr/>
        </p:nvSpPr>
        <p:spPr>
          <a:xfrm>
            <a:off x="1531800" y="1268280"/>
            <a:ext cx="60804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微软雅黑"/>
                <a:ea typeface="微软雅黑"/>
              </a:rPr>
              <a:t>2018</a:t>
            </a:r>
            <a:r>
              <a:rPr b="1" lang="zh-CN" sz="3200" spc="-1" strike="noStrike">
                <a:solidFill>
                  <a:srgbClr val="333399"/>
                </a:solidFill>
                <a:latin typeface="微软雅黑"/>
                <a:ea typeface="微软雅黑"/>
              </a:rPr>
              <a:t>控制学院高岗述职竞聘报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26920" y="1989000"/>
          <a:ext cx="8066160" cy="1189080"/>
        </p:xfrm>
        <a:graphic>
          <a:graphicData uri="http://schemas.openxmlformats.org/drawingml/2006/table">
            <a:tbl>
              <a:tblPr/>
              <a:tblGrid>
                <a:gridCol w="727200"/>
                <a:gridCol w="928800"/>
                <a:gridCol w="936720"/>
                <a:gridCol w="1244520"/>
                <a:gridCol w="771480"/>
                <a:gridCol w="1441440"/>
                <a:gridCol w="1224000"/>
                <a:gridCol w="792000"/>
              </a:tblGrid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微软雅黑"/>
                          <a:ea typeface="微软雅黑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微软雅黑"/>
                          <a:ea typeface="微软雅黑"/>
                        </a:rPr>
                        <a:t>卢建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微软雅黑"/>
                          <a:ea typeface="微软雅黑"/>
                        </a:rPr>
                        <a:t>现岗位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微软雅黑"/>
                          <a:ea typeface="微软雅黑"/>
                        </a:rPr>
                        <a:t>B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微软雅黑"/>
                          <a:ea typeface="微软雅黑"/>
                        </a:rPr>
                        <a:t>考核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微软雅黑"/>
                          <a:ea typeface="微软雅黑"/>
                        </a:rPr>
                        <a:t>良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微软雅黑"/>
                          <a:ea typeface="微软雅黑"/>
                        </a:rPr>
                        <a:t>拟申报岗位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微软雅黑"/>
                          <a:ea typeface="微软雅黑"/>
                        </a:rPr>
                        <a:t>高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C001EA6E-4F39-4C5D-82E9-45AD269B1900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04920"/>
            <a:ext cx="75708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微软雅黑"/>
                <a:ea typeface="微软雅黑"/>
              </a:rPr>
              <a:t>上一聘期内标志性成果与亮点工作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33280" y="2160720"/>
            <a:ext cx="8704440" cy="728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5000"/>
              </a:lnSpc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本科生课程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面向对象的编程技术 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(JAVA)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主讲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), 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获评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次优秀课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25000"/>
              </a:lnSpc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研究生课程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移动互联网软件工程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主讲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)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线分析技术及仪器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合讲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33280" y="1257480"/>
            <a:ext cx="8704440" cy="876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教育教学</a:t>
            </a:r>
            <a:r>
              <a:rPr b="1" lang="en-US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: 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年均课堂教学时数</a:t>
            </a:r>
            <a:r>
              <a:rPr b="1" lang="en-US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85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; 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年均课外教学时数</a:t>
            </a:r>
            <a:r>
              <a:rPr b="1" lang="en-US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145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加权总课时</a:t>
            </a:r>
            <a:r>
              <a:rPr b="1" lang="en-US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630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&gt;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加权基本课时</a:t>
            </a:r>
            <a:r>
              <a:rPr b="1" lang="en-US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384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; 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超额完成</a:t>
            </a:r>
            <a:r>
              <a:rPr b="1" lang="en-US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64%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233280" y="3995640"/>
            <a:ext cx="8704440" cy="172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rmAutofit fontScale="95000"/>
          </a:bodyPr>
          <a:p>
            <a:pPr marL="325800" indent="-325800">
              <a:lnSpc>
                <a:spcPct val="125000"/>
              </a:lnSpc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主持国家重点研发计划资助项目课题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2017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-2020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565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万元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负责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25000"/>
              </a:lnSpc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主持国家自然科学基金重大项目课题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2016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-2020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374.5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万元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负责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25000"/>
              </a:lnSpc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参加国家自然科学基金联合基金重点项目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2016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-2019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负责直接经费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80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万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25000"/>
              </a:lnSpc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参加国家自然科学基金联合基金重点项目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2017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-2020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负责直接经费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63.3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万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25000"/>
              </a:lnSpc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通信作者的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SCI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期刊论文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篇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文一级期刊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篇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; 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第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发明人的发明专利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33280" y="3068640"/>
            <a:ext cx="8704440" cy="900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科学研究</a:t>
            </a:r>
            <a:r>
              <a:rPr b="1" lang="en-US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: 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聘期内新增</a:t>
            </a:r>
            <a:r>
              <a:rPr b="1" lang="en-US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4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项国家级高级别项目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获批总经费</a:t>
            </a:r>
            <a:r>
              <a:rPr b="1" lang="en-US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1082.8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万元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        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其中高级别项目主持</a:t>
            </a:r>
            <a:r>
              <a:rPr b="1" lang="en-US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项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参加</a:t>
            </a:r>
            <a:r>
              <a:rPr b="1" lang="en-US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项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; 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经费到款</a:t>
            </a:r>
            <a:r>
              <a:rPr b="1" lang="en-US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350.7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万元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33280" y="6335640"/>
            <a:ext cx="8704440" cy="401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016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年中国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杭州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)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智能制造大会的第一个大会报告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千人大会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获省领导高度评价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33280" y="5877000"/>
            <a:ext cx="8704440" cy="449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学术影响力</a:t>
            </a:r>
            <a:r>
              <a:rPr b="1" lang="en-US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浙江省智能制造评价方法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首席专家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(2016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、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2017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版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DC95CA47-200A-4EB6-81CB-5D2ECE633BBC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微软雅黑"/>
                <a:ea typeface="微软雅黑"/>
              </a:rPr>
              <a:t>下一聘期的预期成效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33280" y="2160720"/>
            <a:ext cx="8704440" cy="728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5000"/>
              </a:lnSpc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本科生课程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面向对象的编程技术 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(JAVA)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主讲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), 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争取继续获评优秀课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25000"/>
              </a:lnSpc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研究生课程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移动互联网软件工程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主讲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)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线分析技术及仪器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合讲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233280" y="1257480"/>
            <a:ext cx="8704440" cy="876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教育教学</a:t>
            </a:r>
            <a:r>
              <a:rPr b="1" lang="en-US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: 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继续高质量地完成</a:t>
            </a:r>
            <a:r>
              <a:rPr b="1" lang="en-US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3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门课程的课堂教学工作与课外教学工作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加权总课时数争取超额完成</a:t>
            </a:r>
            <a:r>
              <a:rPr b="1" lang="en-US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40%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以上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33280" y="3995640"/>
            <a:ext cx="8704440" cy="172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rmAutofit fontScale="95000"/>
          </a:bodyPr>
          <a:p>
            <a:pPr marL="325800" indent="-325800">
              <a:lnSpc>
                <a:spcPct val="125000"/>
              </a:lnSpc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扎实推进现有的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个国家级项目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: 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项国家重点研发计划课题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+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项国家基金重点项目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25000"/>
              </a:lnSpc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新增主持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项中石油合作项目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00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万元以上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负责人 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已立项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25000"/>
              </a:lnSpc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新增主持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项中国神华合作项目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00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万元以上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负责人 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已立项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25000"/>
              </a:lnSpc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018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年作为第一发明人已成功获批美国发明专利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项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计划新增申请美国专利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25000"/>
              </a:lnSpc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发表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SCI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期刊论文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篇以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33280" y="3068640"/>
            <a:ext cx="8704440" cy="900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科学研究</a:t>
            </a:r>
            <a:r>
              <a:rPr b="1" lang="en-US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: 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继续高质量地推进已有的</a:t>
            </a:r>
            <a:r>
              <a:rPr b="1" lang="en-US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4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项国家级高级别项目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新增</a:t>
            </a:r>
            <a:r>
              <a:rPr b="1" lang="en-US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项央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企合作项目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新增美国专利</a:t>
            </a:r>
            <a:r>
              <a:rPr b="1" lang="en-US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项以上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科研经费到款</a:t>
            </a:r>
            <a:r>
              <a:rPr b="1" lang="en-US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400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万元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33280" y="6335640"/>
            <a:ext cx="8704440" cy="401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从方法迈向标准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入</a:t>
            </a:r>
            <a:r>
              <a:rPr b="0" lang="it-IT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APC/RTO/AI/CPS/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工业大数据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信息安全等</a:t>
            </a:r>
            <a:r>
              <a:rPr b="0" lang="en-US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提升学科影响力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33280" y="5877000"/>
            <a:ext cx="8704440" cy="449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学术影响力</a:t>
            </a:r>
            <a:r>
              <a:rPr b="1" lang="en-US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浙江省智能制造评价标准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首席专家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01:58:13Z</dcterms:created>
  <dc:creator>gxzhang</dc:creator>
  <dc:description/>
  <dc:language>en-US</dc:language>
  <cp:lastModifiedBy>lenovo</cp:lastModifiedBy>
  <dcterms:modified xsi:type="dcterms:W3CDTF">2018-06-26T01:38:12Z</dcterms:modified>
  <cp:revision>89</cp:revision>
  <dc:subject/>
  <dc:title>述职报告</dc:title>
</cp:coreProperties>
</file>