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2ADC-2118-4DA2-B449-D2395667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9B5-C904-45EF-8F68-CF0E39FECD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F69-E6C7-4E94-954B-C60D1079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788-8A9A-4FDF-B8EA-D9B14F4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358-8A2C-4308-A5FA-EA602F5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376-F6A1-46CF-AC50-CCA6D0D9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6E93-0F42-4C97-AC2A-74BA8396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897F-3BBF-41AD-8FE7-1A7CAFEF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820-4C93-41D4-821F-77E0F00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89F7-560F-4EE6-AEA9-5B7F4F1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A86-4EDF-4C43-BF77-7BC2712B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34C2-2F3C-45B6-8954-D271A1B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49D-5D24-4C07-9357-C578D3D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BA9-11A9-4104-AA34-DC487DC4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E029-BFAB-495A-81D0-25FCCD9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19E-1047-4526-978F-0DB6E29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186D-29EE-4EDB-83AC-ED3E0163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6A2-F908-4F04-9F02-8AFC07C6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C42-0098-4757-AB6F-9BBEDB8D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861-9BD9-4316-AAC0-BC2E46AC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BA1-1870-40F6-AF99-07B1CC0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1E9-E280-4E71-91EE-5051E10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68D-79B8-48CF-924D-983702E8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AE6-DB62-4AD4-8866-066603DB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CEE-8950-4543-B5CF-D47FB56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DD4-651C-4193-B603-95AE4FD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16886E3-F9C9-4EA8-8521-873CCDC880A7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88C-9B2A-4848-8B32-D41055C7C73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王保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F094DC57-D864-4517-9F46-8C1A61D255A5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611280" y="15908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承担国家自然科学基金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6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题、国家重大专项各一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承担课内工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时，课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4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时，院优秀班主任、校优秀德育导师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科研工作上提出了一种新类型的电阻层析成像系统，被多个国际科研团队关注，被综述大量引用，并基于我方提出的方法开展了深入研究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加强国际交流合作，与所研究领域的多个国际团队互访交流，扩大了我校的影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760B5C67-C081-4B7D-A77F-65DD899B455E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403280" y="1514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达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求的岗位目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blwang</cp:lastModifiedBy>
  <dcterms:modified xsi:type="dcterms:W3CDTF">2018-06-27T08:25:08Z</dcterms:modified>
  <cp:revision>96</cp:revision>
  <dc:subject/>
  <dc:title>述职报告</dc:title>
</cp:coreProperties>
</file>