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A9C6-676B-416D-83BF-C3AA0B56C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BC1-EA35-46F5-8BAD-8E697482D2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F7C-C97A-4A30-B955-714087A0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6EB-E485-4A51-9F86-C64C9925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DE8-F766-4CC1-A234-5EE6172F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438-D43E-4479-A310-324E5439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651F-24F8-49A6-AAAC-E3A62B53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4914-9BF4-4B4D-8A2A-A31C9A6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B4A0-1B93-4339-9EC7-4BF2A844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6B86-61A7-41B5-AD8B-B211A95E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456F-7B79-44D1-873C-E62347EF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CBBD-7599-4A3E-8CC6-03DA52C9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4E97-8D1F-4EE8-B758-FD0B826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F68-FCE6-443B-B51E-8070CB55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6870-FDAC-4253-99AA-05AF65B2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8B33-EEB3-4684-AC0D-DF5D89C7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809F-2344-4729-BBA2-7ED3B5A4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0C4-59D6-4569-8C73-18E99D53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A2B-DEC2-4211-903E-E40E243C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89B-951C-4383-9C8A-9F51272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C98-6CE3-47A4-9A46-D5E19EA3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F86-A379-42F5-9005-C28AD02A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BC9-5659-42AC-B36B-D86427A1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A91-A8C0-4A82-9F70-0D68583F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998-3B6F-46B1-A7D7-AC9410A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135-1972-4910-87DA-EB5632EE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C3138F50-B7B0-43C2-AE35-18E40A02B01F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EA25-AC94-4EBE-BC55-8C229A86540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戴连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良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1298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上一聘期内标志性成果与亮点工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267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</a:rPr>
              <a:t>课堂教学：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700" spc="-1" strike="noStrike">
                <a:solidFill>
                  <a:srgbClr val="000000"/>
                </a:solidFill>
                <a:latin typeface="Tahoma"/>
              </a:rPr>
              <a:t>负责本科生专业核心课：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Tahoma"/>
              </a:rPr>
              <a:t>过程控制工程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700" spc="-1" strike="noStrike">
                <a:solidFill>
                  <a:srgbClr val="000000"/>
                </a:solidFill>
                <a:latin typeface="Tahoma"/>
              </a:rPr>
              <a:t>的建设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</a:rPr>
              <a:t>课外教学：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700" spc="-1" strike="noStrike">
                <a:solidFill>
                  <a:srgbClr val="000000"/>
                </a:solidFill>
                <a:latin typeface="Tahoma"/>
              </a:rPr>
              <a:t>主持浙江省高等教育课堂教学改革项目：强化控制系统综合设计能力的教学探索与实践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</a:rPr>
              <a:t>公共服务：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基层教学组织责任教授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700" spc="-1" strike="noStrike">
                <a:solidFill>
                  <a:srgbClr val="000000"/>
                </a:solidFill>
                <a:latin typeface="Tahoma"/>
              </a:rPr>
              <a:t>负责自动化专业本科课程组建设、本科教学培养方案修订完善等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</a:rPr>
              <a:t>科研工作特色（研究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zh-CN" sz="3100" spc="-1" strike="noStrike">
                <a:solidFill>
                  <a:srgbClr val="000000"/>
                </a:solidFill>
                <a:latin typeface="Tahoma"/>
              </a:rPr>
              <a:t>开发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zh-CN" sz="3100" spc="-1" strike="noStrike">
                <a:solidFill>
                  <a:srgbClr val="000000"/>
                </a:solidFill>
                <a:latin typeface="Tahoma"/>
              </a:rPr>
              <a:t>工程应用）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</a:rPr>
              <a:t>混合物组成在线拉曼分析技术的研究开发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</a:rPr>
              <a:t>在线拉曼分析系统在石化等行业中工程应用。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8317080" y="60930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388E8567-8207-4B99-A2EA-436D993124C1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000" y="1267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标志性成果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出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过程控制工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四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争取列入国家级规划教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到校总经费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万元以上（全额提成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发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论文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篇及以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科研工作成果可望获得广泛应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经过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年的科研积累，研究团队所开发的在线拉曼分析系统已逐步完善，技术水平已达到国际先进，多次与国外著名厂商的竞争中取得成功。作为一种面向流程工业的零排放、免维护、快速准确的混合物组成新一代在线分析技术，已开始获得石化、制药等行业的认可，推广应用前景光明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8317080" y="602136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98F7AB40-E75E-474E-9250-64ADA83491EC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/>
  <dc:description/>
  <dc:language>en-US</dc:language>
  <cp:lastModifiedBy>user</cp:lastModifiedBy>
  <dcterms:modified xsi:type="dcterms:W3CDTF">2018-06-26T02:52:46Z</dcterms:modified>
  <cp:revision>103</cp:revision>
  <dc:subject/>
  <dc:title>述职报告</dc:title>
</cp:coreProperties>
</file>