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D4C2-95A0-409D-AA28-6FF56BB12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AD9-2854-434C-A302-CD764AC7C0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12B-7A57-4B02-BC0A-467BF827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074-5FD4-4B14-A231-30C3AF95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8E6-DC83-4F01-B038-7EF3626D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DF4-B16B-4D96-8F00-FBCE5522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B6E1-8035-486B-A478-14F4F1E4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F9D6-C918-477E-A341-523BBE9A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77EA-CCD1-47E7-A465-BB9B30A5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88DF-B34A-4C28-9147-224B31E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4C76-A835-4BEA-BC93-E2858CC8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4F1F-5406-4D20-B427-7ECC8922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99DC-2851-4F6E-AD00-05E4412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1E0-DDB0-485F-B490-D20004FD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BE79-8A49-47C5-B99C-858407B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4483-BF7A-4ACE-9EC0-AB93386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21E-7902-46BA-9B76-8B43F25B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0092-BA6E-4B67-8E52-3513D55A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753A-EA21-4611-8A67-300B9F22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183-3B9E-4BCC-8EE9-8C30F4C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2E2-27C8-4638-B83E-BCACD3FF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478-CE95-4550-A857-FA024FC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BA8-8566-49C3-8496-1B7BBB24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84E-51C8-42AD-9E39-4649CA7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405-098F-405F-A35C-9BC7BA81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864-37D7-4AB1-94E7-E9994C6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6E396146-F82D-459A-BFC3-09AF9F389DBF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0D16-49B6-4425-8861-A74E8DCB8BA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30240"/>
                <a:gridCol w="935280"/>
                <a:gridCol w="1244520"/>
                <a:gridCol w="771480"/>
                <a:gridCol w="1440000"/>
                <a:gridCol w="122544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陈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19017581-E4FF-4816-B30D-C53CDA98BD25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91"/>
          <p:cNvSpPr/>
          <p:nvPr/>
        </p:nvSpPr>
        <p:spPr>
          <a:xfrm>
            <a:off x="-108000" y="1268280"/>
            <a:ext cx="92520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05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教学情况：课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全部评价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优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0560" indent="-342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000" spc="-1" strike="noStrike" u="sng">
                <a:solidFill>
                  <a:srgbClr val="3333cc"/>
                </a:solidFill>
                <a:uFillTx/>
                <a:latin typeface="Times New Roman"/>
              </a:rPr>
              <a:t>本科生课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：信号与系统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乙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zh-CN" sz="2000" spc="-1" strike="noStrike" u="sng">
                <a:solidFill>
                  <a:srgbClr val="3333cc"/>
                </a:solidFill>
                <a:uFillTx/>
                <a:latin typeface="Times New Roman"/>
              </a:rPr>
              <a:t>研究生课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：过程系统工程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课外学时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05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科研项目：总到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国家基金重点项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6-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家基金面上项目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4-20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家重点研发计划子课题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7-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7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课题，结题优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向项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05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术论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篇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区以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、英文专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一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05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际影响：国际联合研究中心副主任；入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S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界大会国际程序委员会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科学委员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国际会议大会报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，特邀报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；国内大会报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；过程系统工程专业委员会委员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校化工学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委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油化工自动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副主任委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42920" y="4292640"/>
          <a:ext cx="8750160" cy="2378160"/>
        </p:xfrm>
        <a:graphic>
          <a:graphicData uri="http://schemas.openxmlformats.org/drawingml/2006/table">
            <a:tbl>
              <a:tblPr/>
              <a:tblGrid>
                <a:gridCol w="4933800"/>
                <a:gridCol w="1060560"/>
                <a:gridCol w="1514520"/>
                <a:gridCol w="12412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期刊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4f81bd"/>
                      </a:solidFill>
                    </a:lnL>
                    <a:lnR>
                      <a:noFill/>
                    </a:lnR>
                    <a:lnT w="93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分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影响因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ChE Journal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U1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 &amp; Engineering Chemistry 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uters &amp; Chemic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rnal of Global Optim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C0AA2CD6-65BA-4EE5-B588-0C4618675BA0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Rectangle 91"/>
          <p:cNvSpPr/>
          <p:nvPr/>
        </p:nvSpPr>
        <p:spPr>
          <a:xfrm>
            <a:off x="0" y="1341360"/>
            <a:ext cx="91440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Verdana"/>
              </a:rPr>
              <a:t>标志性成果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新增国家重点研发计划项目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6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万元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18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Verdana"/>
              </a:rPr>
              <a:t>教育教学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年均加权课堂教学时数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学时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新开课过程动态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Verdana"/>
              </a:rPr>
              <a:t>公共事务和社会服务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0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班主任；竺院导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91"/>
          <p:cNvSpPr/>
          <p:nvPr/>
        </p:nvSpPr>
        <p:spPr>
          <a:xfrm>
            <a:off x="-3240" y="2565360"/>
            <a:ext cx="86457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Verdana"/>
              </a:rPr>
              <a:t>科研项目要求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满足以下条件之一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新增主持总经费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万以上国家级项目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到校总经费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150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万元以上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全额提成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Verdana"/>
              </a:rPr>
              <a:t>科研成果要求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满足以下条件之一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1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年已发表大类学科二区以上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91"/>
          <p:cNvSpPr/>
          <p:nvPr/>
        </p:nvSpPr>
        <p:spPr>
          <a:xfrm>
            <a:off x="0" y="4076640"/>
            <a:ext cx="9144000" cy="27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Verdana"/>
              </a:rPr>
              <a:t>国际合作交流与学术影响力 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担任国内外学术或技术组织职务，或重要学术期刊编委；组织重要国内外学术会议或受邀做大会报告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主题报告等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发表国际合作论文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篇及以上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主持国际合作项目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在学院国际化推进、学科交叉、产学研合作、发展联络工作中做出重要贡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⑤</a:t>
            </a:r>
            <a:r>
              <a:rPr b="1" lang="zh-CN" sz="2000" spc="-1" strike="noStrike">
                <a:solidFill>
                  <a:srgbClr val="0033cc"/>
                </a:solidFill>
                <a:latin typeface="Verdana"/>
              </a:rPr>
              <a:t>承担全英文课程，或开设慕课课程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入选</a:t>
            </a:r>
            <a:r>
              <a:rPr b="1" lang="nb-NO" sz="2000" spc="-1" strike="noStrike">
                <a:solidFill>
                  <a:srgbClr val="ff0000"/>
                </a:solidFill>
                <a:latin typeface="Verdana"/>
              </a:rPr>
              <a:t>Comp. &amp; Chem. Eng.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编委</a:t>
            </a:r>
            <a:r>
              <a:rPr b="1" lang="nb-NO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nb-NO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二区，</a:t>
            </a:r>
            <a:r>
              <a:rPr b="1" lang="nb-NO" sz="2000" spc="-1" strike="noStrike">
                <a:solidFill>
                  <a:srgbClr val="ff0000"/>
                </a:solidFill>
                <a:latin typeface="Verdana"/>
              </a:rPr>
              <a:t>IF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：</a:t>
            </a:r>
            <a:r>
              <a:rPr b="1" lang="nb-NO" sz="2000" spc="-1" strike="noStrike">
                <a:solidFill>
                  <a:srgbClr val="ff0000"/>
                </a:solidFill>
                <a:latin typeface="Verdana"/>
              </a:rPr>
              <a:t>3.02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chen xi</cp:lastModifiedBy>
  <dcterms:modified xsi:type="dcterms:W3CDTF">2018-06-26T02:11:57Z</dcterms:modified>
  <cp:revision>94</cp:revision>
  <dc:subject/>
  <dc:title>述职报告</dc:title>
</cp:coreProperties>
</file>