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A072-845C-4F94-B89C-F8CA9BC07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A7E1-5E00-492E-9C7D-34962C74A2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幻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4AD9-9798-4337-8E03-94AF773D4B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4AD-589A-48DC-9172-29C2F74F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F6A-0626-4B04-9576-47C0333A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288-5D1D-4027-950D-5A6D5576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B6B-0018-4F1B-B8CD-C1DD3CC8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C57C-4508-429F-BF4C-F13B151C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2BAE-410F-4DBF-B0FD-E0B1C50A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0CF3-8210-4083-9066-649A6B1A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1E34-D3E9-4C22-BD6C-24D8DE91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4893-3C78-45F9-9A31-653878E5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DF7C-3E87-4148-BC00-24FE909C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A343-FCB7-4BD2-88AA-B3FE4670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83D-39C9-44D4-9FCE-3FDE5273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5C55-D232-4B5B-9EB0-97933877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4C2B-87AB-4E25-A03B-919E345C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257F-D201-4BA0-AEB8-94E0B7EA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6CAE-CDB3-4C06-B94E-F38680F3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E1B1-22C4-467C-898A-684D7F44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BB1-C379-4A4F-A990-B8A81EC3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EE3-4C76-4EE4-9EAE-E958C0F4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B91-9540-4A79-8FE1-7C9B576B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5EA-CD53-408C-869E-A636E690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3F3-70C5-4235-A48E-D5C912F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7A3-1227-449F-9CAC-48DF1F09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158-07DB-4644-AC3F-98D6F787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DE08F991-C0A5-472B-9391-E5315BF483DC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B300-9BCB-468B-B4BF-62B66B07107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189080"/>
        </p:xfrm>
        <a:graphic>
          <a:graphicData uri="http://schemas.openxmlformats.org/drawingml/2006/table">
            <a:tbl>
              <a:tblPr/>
              <a:tblGrid>
                <a:gridCol w="727200"/>
                <a:gridCol w="930240"/>
                <a:gridCol w="935280"/>
                <a:gridCol w="1244520"/>
                <a:gridCol w="771480"/>
                <a:gridCol w="1440000"/>
                <a:gridCol w="1225440"/>
                <a:gridCol w="79200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熊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优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F1C3720D-FA38-4208-B8D6-018A6D7EA3E3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（不超过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项）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文本框 2"/>
          <p:cNvSpPr/>
          <p:nvPr/>
        </p:nvSpPr>
        <p:spPr>
          <a:xfrm>
            <a:off x="198360" y="1341360"/>
            <a:ext cx="8640720" cy="35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SimHei"/>
                <a:ea typeface="SimHei"/>
              </a:rPr>
              <a:t>教学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.AppleSystemUI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组织开展控制学院机器人方向、竺可桢学院智能机器人交叉班、工高班创新模块机器人培养体系和课程建设，承担机器人导论、机器人技术、智能移动机器人等课程讲授，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学年总学时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222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学时，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次获评优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.AppleSystemUI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建设机器人科教实践基地建设，指导学生研制机器人在国际竞赛中取得优异成绩，入选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RoboCup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国际理事会理事，推动国际、全国、省、校机器人竞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.AppleSystemUI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获校教学成果奖一等奖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排名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1)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CAA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教学成果奖一等奖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排名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SimHei"/>
                <a:ea typeface="SimHei"/>
              </a:rPr>
              <a:t>研究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.AppleSystemUI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获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NSFC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NSFC-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浙江省联合基金等国家项目支持，获批浙江省首批万人计划科技创新领军人才项目，与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ABB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、百度、北方车辆研究所、南江等开展合作，加权入账总经费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928.99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万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.AppleSystemUI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开展旋转飞行轨迹预测、移动感知导航与移动作业、工业装配作业演示编程关键技术研究，在国际上首次实现了高速旋转飞行乒乓球的接打，提升了机器人智能移动能力和操作学习能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SimHei"/>
                <a:ea typeface="SimHei"/>
              </a:rPr>
              <a:t>团队建设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.AppleSystemUI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组织团队申请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JKW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NSFC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、科技部重要项目申请，获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JKW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重点项目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项，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NSFC-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浙江省两化融合项目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项，科技部重点项目课题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项，组织协调团队对外交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8AC33E02-8E66-4EC4-B27A-E87E6A4EECD4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SimHei"/>
                <a:ea typeface="SimHei"/>
              </a:rPr>
              <a:t>教学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.AppleSystemUI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SimHei"/>
              </a:rPr>
              <a:t>继续组织建设机器人方向实践平台和课程，负责机器人学等课程讲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.AppleSystemUI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SimHei"/>
              </a:rPr>
              <a:t>参与组织机器人工程专业申请，争取获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.AppleSystemUI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SimHei"/>
              </a:rPr>
              <a:t>承担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Hei"/>
              </a:rPr>
              <a:t>RoboCup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SimHei"/>
              </a:rPr>
              <a:t>国际理事会相关工作，推动机器人教育，扩大浙江大学影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SimHei"/>
                <a:ea typeface="SimHei"/>
              </a:rPr>
              <a:t>研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.AppleSystemUI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SimHei"/>
              </a:rPr>
              <a:t>深入机器人智能学习、感知、推理和决策等方面研究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.AppleSystemUI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SimHei"/>
              </a:rPr>
              <a:t>申请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Hei"/>
              </a:rPr>
              <a:t>NSFC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SimHei"/>
              </a:rPr>
              <a:t>人机共融等重要项目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.AppleSystemUI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SimHei"/>
              </a:rPr>
              <a:t>进一步开展相关技术转化和应用推广，获企业重要合作项目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SimHei"/>
                <a:ea typeface="SimHei"/>
              </a:rPr>
              <a:t>团队建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SimHei"/>
              </a:rPr>
              <a:t>组织支撑团队成员申请国家重要项目和优秀人才项目，引进优秀青年人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SimHei"/>
              </a:rPr>
              <a:t>加强国际合作交流，建设海外学术大师和骨干团队建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Microsoft Office 用户</cp:lastModifiedBy>
  <dcterms:modified xsi:type="dcterms:W3CDTF">2018-06-26T03:25:59Z</dcterms:modified>
  <cp:revision>93</cp:revision>
  <dc:subject/>
  <dc:title>述职报告</dc:title>
</cp:coreProperties>
</file>