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369-3133-4D57-B96F-60DBBEEF7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8C69-839D-4882-AF5D-498BF4DEE6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88C-07C7-441A-BFEB-3FCD2E15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B1D-7515-4A11-B361-4E532E0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E45-4E13-4234-89D6-A105C3B4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911-9E86-4AA8-A9C1-55D92C01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B1D-6BFF-494B-B895-7C5CE5D1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923D-8304-4E19-969A-68862BF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687-D706-4344-92DD-1995D8C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1FE8-81A0-498A-A36B-00C56148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C36-E6F0-4B27-950E-42DDDB96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0E9-4312-4167-8691-D5D48093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3E7-30AA-4C03-88F1-72F86C0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79E-BF56-4AF9-8F4F-E4FBD8D9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689-0DE8-455B-B346-39CC76E1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DFE-294B-4CBB-82A5-00C8AE3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F412-C06D-4D50-8A07-1EA107A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7517-1D1E-40AB-BD6A-BE79D2E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782-238F-45BC-9F2A-80C1CF33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2D7-2B27-4C07-9949-F64C5C6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FB2-98A4-4740-9525-698186A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23C-1602-46EC-A685-0D849023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CAD-98DE-4D1B-83F4-D5EC91C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B5-F299-4E7E-BC62-EA209ED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4AC-796F-42F8-B120-0040DE0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684-83DF-43A9-A35A-0B86285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48BCE7C1-FC26-4980-86F0-FE54D113DB6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F6D-0C8B-4F99-BCC6-5E7D162B18E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李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0E86D0DC-E487-41C6-92B3-436C2937E2BD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内容占位符 2"/>
          <p:cNvSpPr/>
          <p:nvPr/>
        </p:nvSpPr>
        <p:spPr>
          <a:xfrm>
            <a:off x="539640" y="1268280"/>
            <a:ext cx="81471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开设本科生课程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11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门次，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10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优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ahoma"/>
              </a:rPr>
              <a:t>年均课程教学时数 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1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现代仿生科学和工程导论 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微机原理与接口技术         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专业英语                           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良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主持省教改项目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项，学校教学成果二等奖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开放平台激发创新，学科竞赛驱动实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微机和嵌入式系统整合教学新模式探索”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6-102018-1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学校教学二等奖（双创驱动的“基地、人才和项目一体化”专业学位硕士培养模式创新与策略研究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二区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(TOP)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论文两篇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BIOSENSORS &amp; BIOELECTRONICS  </a:t>
            </a:r>
            <a:r>
              <a:rPr b="0" lang="zh-CN" sz="2000" spc="-1" strike="noStrike">
                <a:solidFill>
                  <a:srgbClr val="0070c0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70c0"/>
                </a:solidFill>
                <a:latin typeface="Tahoma"/>
              </a:rPr>
              <a:t>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SENSORS AND ACTUATORS B-CHEMICAL </a:t>
            </a:r>
            <a:r>
              <a:rPr b="0" lang="zh-CN" sz="2000" spc="-1" strike="noStrike">
                <a:solidFill>
                  <a:srgbClr val="0070c0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70c0"/>
                </a:solidFill>
                <a:latin typeface="Tahoma"/>
              </a:rPr>
              <a:t>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论文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篇（其中第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通讯作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与同事共同创办国际学术期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T Cyber-Systems &amp; 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公共服务</a:t>
            </a:r>
            <a:r>
              <a:rPr b="1" lang="en-US" sz="2200" spc="-1" strike="noStrike">
                <a:solidFill>
                  <a:srgbClr val="c00000"/>
                </a:solidFill>
                <a:latin typeface="黑体"/>
                <a:ea typeface="黑体"/>
              </a:rPr>
              <a:t>-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担任学院副院长，校优秀共产党员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63CC2B19-11DF-4DD2-BD9E-300DEEFBA9DC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539640" y="2205000"/>
            <a:ext cx="81471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课程教学优秀率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&gt;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区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/TOP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论文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&gt;3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IET Cyber-Systems &amp; Robotics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全球发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ahoma"/>
              </a:rPr>
              <a:t>部分文章开始被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SCI</a:t>
            </a:r>
            <a:r>
              <a:rPr b="0" lang="zh-CN" sz="2800" spc="-1" strike="noStrike">
                <a:solidFill>
                  <a:srgbClr val="0070c0"/>
                </a:solidFill>
                <a:latin typeface="Tahoma"/>
              </a:rPr>
              <a:t>收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GuangLi</cp:lastModifiedBy>
  <dcterms:modified xsi:type="dcterms:W3CDTF">2018-06-24T14:48:34Z</dcterms:modified>
  <cp:revision>95</cp:revision>
  <dc:subject/>
  <dc:title>述职报告</dc:title>
</cp:coreProperties>
</file>