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B61F-9708-4F60-9A92-A37FFA4E9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CF4-004E-4F4D-AC20-83C3A2D28A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18-1C15-45FB-87F5-15F54D92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FC9-B1AF-425F-B2DD-9B42579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9AC-7C40-4FEC-88DC-00284FF6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E01-191E-4971-84B1-89AF4A5E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E97-B639-4325-A91F-81B7788F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A614-51DD-4FE7-AB8D-15A2432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01A8-D875-46F0-8931-35F8F8EA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1F1-2027-4B7D-9C20-D7348AE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A6B3-E421-4E3D-908B-699AEBE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A6E-1A22-414D-82AF-9ECD851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F510-987E-4440-AFE6-89D1E3A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7CC-0CED-44E0-97E5-7E83C0B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5E7-0393-4A64-81D5-137926F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56B0-553A-4A3F-9D7B-7C5E190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F25-2A09-4B9D-A557-5C0261EB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1DD-D77A-46DF-918D-930A8BAC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2491-1511-4AD2-A477-93F5C708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B0-365C-4596-9519-475BFBF3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4E8-74C7-4E2B-AF5B-0C08EA49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EDB-A7A1-421A-9C33-1AC4CD45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A95-2630-47D0-903B-6EAC670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5AD-E1EA-4CDA-91EB-07203E5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FE4-18E2-4742-9A75-2378212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A50-5449-471C-9FCE-C2B24B7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E11729C3-8865-475D-9738-5018A167432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1382-F55A-4293-AE55-90CBE34AD59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311480"/>
        </p:xfrm>
        <a:graphic>
          <a:graphicData uri="http://schemas.openxmlformats.org/drawingml/2006/table">
            <a:tbl>
              <a:tblPr/>
              <a:tblGrid>
                <a:gridCol w="727200"/>
                <a:gridCol w="1001880"/>
                <a:gridCol w="1008000"/>
                <a:gridCol w="1100160"/>
                <a:gridCol w="771480"/>
                <a:gridCol w="1441440"/>
                <a:gridCol w="1224000"/>
                <a:gridCol w="79200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程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现岗位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考核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优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拟申报岗位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高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D7F9494F-945D-4378-9D9E-08007B36BC5A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上一聘期内标志性成果与亮点工作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内容占位符 2"/>
          <p:cNvSpPr/>
          <p:nvPr/>
        </p:nvSpPr>
        <p:spPr>
          <a:xfrm>
            <a:off x="142920" y="1230480"/>
            <a:ext cx="88930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项目：主持国家基金面上、重点项目课题，绿盟鲲鹏基金等，到款经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&gt;15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2016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年国家科技进步二等奖（第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）、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2017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年教育部自然科学一等奖（第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），入选教育部青年长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、霍英东青年教师一等奖、浙江省万人计划青年拔尖人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IEEE 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汇刊论文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篇（第一或通信作者），其中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ZJU  100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论文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篇（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篇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IEEE TAC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）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篇入选中国最具影响百篇国际论文。论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SC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他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余次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两年授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门，共完成等价课外教学工作量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584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学时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&gt;384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学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担任控制领域旗舰刊物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IEEE Trans. Control of Network Systems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编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6ECA2E6-C4EB-43CA-89C2-54998BA8083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34920" y="1268280"/>
            <a:ext cx="90010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项目：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主持国家重点研发计划课题（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497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万元），国家基金国际合作重点（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211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万元）、国家基金重点（已进答辩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、国家基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优青，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浙江电力（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&gt;100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万元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2018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年浙江省自然科学一等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201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年国家自然科学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发表安全方向旗舰会议及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IEE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汇刊论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5~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讲授课程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门，教学论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篇，高质量完成教学与公共服务工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担任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IEEE TAC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客座编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，扩大国际学术影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引进百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青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人，培养自动化学会优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提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结合网络空间安全研究中心副主任、中国自动化学会工控安全专委会秘书长等为学科与学院建设服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saodiseng@gmail.com</cp:lastModifiedBy>
  <dcterms:modified xsi:type="dcterms:W3CDTF">2018-06-24T13:08:17Z</dcterms:modified>
  <cp:revision>164</cp:revision>
  <dc:subject/>
  <dc:title>述职报告</dc:title>
</cp:coreProperties>
</file>